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531A-595D-4725-A612-63F53883A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7DC3-AAEA-4CB3-AD71-BBD0893F2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E1E2-9FEB-4464-8FDB-A3AFAEAEB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743B-B084-4695-9971-160F53C77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55E3-E588-4CDE-93B2-602F88635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2434-AB70-493D-8405-BE156F10B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BDE4-209E-48C7-B81E-10500BE5F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643F-CDC6-4591-89C1-BA25F68E1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9EFF-5504-4BCE-84C8-D762EC07B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578F-994B-4AE6-A83B-04AA670E9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1EA8-13F7-434E-8496-3C323174F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07F8-83EB-461A-8373-47F3DD89D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5DEB4-07D5-4C9D-9EDC-5C658FEE78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501520" y="5246640"/>
            <a:ext cx="7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971800" y="5105520"/>
            <a:ext cx="1058760" cy="911160"/>
          </a:xfrm>
          <a:prstGeom prst="flowChartDecision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bu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0" y="5105520"/>
            <a:ext cx="1058760" cy="911160"/>
          </a:xfrm>
          <a:prstGeom prst="flowChartDecision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ulti-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limate/Hydr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3680" y="3090960"/>
            <a:ext cx="1224000" cy="7189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ake Okeechobe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ater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6" idx="3"/>
            <a:endCxn id="47" idx="1"/>
          </p:cNvCxnSpPr>
          <p:nvPr/>
        </p:nvCxnSpPr>
        <p:spPr>
          <a:xfrm>
            <a:off x="2172240" y="2833920"/>
            <a:ext cx="3936960" cy="16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48" name=""/>
          <p:cNvCxnSpPr>
            <a:stCxn id="49" idx="3"/>
            <a:endCxn id="50" idx="1"/>
          </p:cNvCxnSpPr>
          <p:nvPr/>
        </p:nvCxnSpPr>
        <p:spPr>
          <a:xfrm>
            <a:off x="2855880" y="4199040"/>
            <a:ext cx="3253320" cy="3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47" name=""/>
          <p:cNvSpPr/>
          <p:nvPr/>
        </p:nvSpPr>
        <p:spPr>
          <a:xfrm>
            <a:off x="6108840" y="239400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ownstrea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CAs &lt; ma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f upp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chedu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+0.25 f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813800" y="2263680"/>
            <a:ext cx="866520" cy="528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x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ctic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813800" y="2900520"/>
            <a:ext cx="866520" cy="52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ea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2"/>
            <a:endCxn id="52" idx="1"/>
          </p:cNvCxnSpPr>
          <p:nvPr/>
        </p:nvCxnSpPr>
        <p:spPr>
          <a:xfrm flipH="1" flipV="1" rot="5400000">
            <a:off x="7155720" y="2647440"/>
            <a:ext cx="140760" cy="1175760"/>
          </a:xfrm>
          <a:prstGeom prst="bentConnector4">
            <a:avLst>
              <a:gd name="adj1" fmla="val -166153"/>
              <a:gd name="adj2" fmla="val 72618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54" name=""/>
          <p:cNvCxnSpPr/>
          <p:nvPr/>
        </p:nvCxnSpPr>
        <p:spPr>
          <a:xfrm flipH="1" rot="16200000">
            <a:off x="7158600" y="1861560"/>
            <a:ext cx="135720" cy="1175760"/>
          </a:xfrm>
          <a:prstGeom prst="bentConnector4">
            <a:avLst>
              <a:gd name="adj1" fmla="val 5851"/>
              <a:gd name="adj2" fmla="val 72404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55" name=""/>
          <p:cNvSpPr/>
          <p:nvPr/>
        </p:nvSpPr>
        <p:spPr>
          <a:xfrm>
            <a:off x="6108840" y="5108400"/>
            <a:ext cx="1058760" cy="911520"/>
          </a:xfrm>
          <a:prstGeom prst="flowChartDecision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sir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R with min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verglad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pac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813800" y="4978440"/>
            <a:ext cx="866520" cy="52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p to Max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ctic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813800" y="5614920"/>
            <a:ext cx="866520" cy="528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ea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" name=""/>
          <p:cNvCxnSpPr/>
          <p:nvPr/>
        </p:nvCxnSpPr>
        <p:spPr>
          <a:xfrm flipH="1" rot="16200000">
            <a:off x="7158600" y="4581000"/>
            <a:ext cx="135720" cy="1175760"/>
          </a:xfrm>
          <a:prstGeom prst="bentConnector4">
            <a:avLst>
              <a:gd name="adj1" fmla="val 7978"/>
              <a:gd name="adj2" fmla="val 72404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50" name=""/>
          <p:cNvSpPr/>
          <p:nvPr/>
        </p:nvSpPr>
        <p:spPr>
          <a:xfrm>
            <a:off x="6108840" y="374652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ownstrea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CAs &lt; ma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f upp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chedu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+0.25 f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813800" y="3616200"/>
            <a:ext cx="866520" cy="528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x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ctic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813800" y="4253040"/>
            <a:ext cx="866520" cy="52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ea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" name=""/>
          <p:cNvCxnSpPr>
            <a:stCxn id="50" idx="2"/>
            <a:endCxn id="60" idx="1"/>
          </p:cNvCxnSpPr>
          <p:nvPr/>
        </p:nvCxnSpPr>
        <p:spPr>
          <a:xfrm flipH="1" flipV="1" rot="5400000">
            <a:off x="7155720" y="3999960"/>
            <a:ext cx="140760" cy="1175760"/>
          </a:xfrm>
          <a:prstGeom prst="bentConnector4">
            <a:avLst>
              <a:gd name="adj1" fmla="val -166153"/>
              <a:gd name="adj2" fmla="val 72618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2" name=""/>
          <p:cNvCxnSpPr/>
          <p:nvPr/>
        </p:nvCxnSpPr>
        <p:spPr>
          <a:xfrm flipH="1" rot="16200000">
            <a:off x="7158600" y="3218760"/>
            <a:ext cx="135720" cy="1175760"/>
          </a:xfrm>
          <a:prstGeom prst="bentConnector4">
            <a:avLst>
              <a:gd name="adj1" fmla="val 5851"/>
              <a:gd name="adj2" fmla="val 72404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3" name=""/>
          <p:cNvCxnSpPr>
            <a:stCxn id="64" idx="3"/>
            <a:endCxn id="65" idx="1"/>
          </p:cNvCxnSpPr>
          <p:nvPr/>
        </p:nvCxnSpPr>
        <p:spPr>
          <a:xfrm flipV="1">
            <a:off x="4412520" y="1785240"/>
            <a:ext cx="3401640" cy="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65" name=""/>
          <p:cNvSpPr/>
          <p:nvPr/>
        </p:nvSpPr>
        <p:spPr>
          <a:xfrm>
            <a:off x="7813800" y="1521000"/>
            <a:ext cx="866520" cy="52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m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x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ctic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44" idx="7"/>
          </p:cNvCxnSpPr>
          <p:nvPr/>
        </p:nvCxnSpPr>
        <p:spPr>
          <a:xfrm flipV="1">
            <a:off x="1238400" y="2842560"/>
            <a:ext cx="319680" cy="35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7" name=""/>
          <p:cNvCxnSpPr>
            <a:stCxn id="44" idx="0"/>
          </p:cNvCxnSpPr>
          <p:nvPr/>
        </p:nvCxnSpPr>
        <p:spPr>
          <a:xfrm flipV="1">
            <a:off x="805680" y="1874520"/>
            <a:ext cx="720720" cy="121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8" name=""/>
          <p:cNvCxnSpPr>
            <a:stCxn id="44" idx="4"/>
            <a:endCxn id="49" idx="1"/>
          </p:cNvCxnSpPr>
          <p:nvPr/>
        </p:nvCxnSpPr>
        <p:spPr>
          <a:xfrm>
            <a:off x="805680" y="3809880"/>
            <a:ext cx="741960" cy="389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9" name=""/>
          <p:cNvCxnSpPr>
            <a:stCxn id="42" idx="2"/>
            <a:endCxn id="57" idx="2"/>
          </p:cNvCxnSpPr>
          <p:nvPr/>
        </p:nvCxnSpPr>
        <p:spPr>
          <a:xfrm flipH="1" rot="16200000">
            <a:off x="5810760" y="3706920"/>
            <a:ext cx="127440" cy="4746240"/>
          </a:xfrm>
          <a:prstGeom prst="bentConnector3">
            <a:avLst>
              <a:gd name="adj1" fmla="val 281869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70" name=""/>
          <p:cNvCxnSpPr>
            <a:stCxn id="43" idx="2"/>
          </p:cNvCxnSpPr>
          <p:nvPr/>
        </p:nvCxnSpPr>
        <p:spPr>
          <a:xfrm>
            <a:off x="5101560" y="6016680"/>
            <a:ext cx="2880" cy="351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71" name=""/>
          <p:cNvSpPr/>
          <p:nvPr/>
        </p:nvSpPr>
        <p:spPr>
          <a:xfrm>
            <a:off x="0" y="0"/>
            <a:ext cx="91440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8 L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 C: Establish Allowable Lake Okeechobee Releases to the Water Conservation Are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546560" y="1617840"/>
            <a:ext cx="28659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 Lake Management B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876840" y="5307120"/>
            <a:ext cx="79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THER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130720" y="604512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917760" y="580536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62400" y="511668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917760" y="444672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981480" y="375768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924240" y="307512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68520" y="239544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84120" y="6068880"/>
            <a:ext cx="2908440" cy="6256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:  This operational guidance provides essential supplementary information to be used in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conjuncti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with other supporting documentation including text within the Water Control Pla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73920" y="2665440"/>
            <a:ext cx="5983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547280" y="4030560"/>
            <a:ext cx="13086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23880" y="4952880"/>
            <a:ext cx="10670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4920" y="3657600"/>
            <a:ext cx="1207800" cy="211284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4024440" y="5559120"/>
            <a:ext cx="544320" cy="324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618160" y="5562720"/>
            <a:ext cx="498600" cy="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529640" y="5638680"/>
            <a:ext cx="1128600" cy="337320"/>
          </a:xfrm>
          <a:prstGeom prst="rect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se F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rot="5400000">
            <a:off x="-180720" y="5861160"/>
            <a:ext cx="849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igure 7-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381480" y="770040"/>
            <a:ext cx="2203200" cy="53316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Apply Tributa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Condi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Criteria Dai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019160" y="771480"/>
            <a:ext cx="2203560" cy="53352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Apply Multi-Seaso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Climate/Hydrologic Outloo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on a Monthly Bas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8120" y="3741840"/>
            <a:ext cx="1076400" cy="13078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589120" y="5133960"/>
            <a:ext cx="193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2782440" y="5133960"/>
            <a:ext cx="1800" cy="6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665440" y="5821200"/>
            <a:ext cx="117360" cy="0"/>
          </a:xfrm>
          <a:prstGeom prst="line">
            <a:avLst/>
          </a:prstGeom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786040" y="5562720"/>
            <a:ext cx="185760" cy="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7040" y="606420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"/>
          <p:cNvCxnSpPr/>
          <p:nvPr/>
        </p:nvCxnSpPr>
        <p:spPr>
          <a:xfrm flipH="1" flipV="1" rot="5400000">
            <a:off x="7158240" y="5360400"/>
            <a:ext cx="140400" cy="1175400"/>
          </a:xfrm>
          <a:prstGeom prst="bentConnector4">
            <a:avLst>
              <a:gd name="adj1" fmla="val 1028"/>
              <a:gd name="adj2" fmla="val 72549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96" name=""/>
          <p:cNvSpPr/>
          <p:nvPr/>
        </p:nvSpPr>
        <p:spPr>
          <a:xfrm flipV="1">
            <a:off x="2781360" y="5555880"/>
            <a:ext cx="0" cy="273240"/>
          </a:xfrm>
          <a:prstGeom prst="line">
            <a:avLst/>
          </a:prstGeom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75160" y="4037040"/>
            <a:ext cx="1066680" cy="73980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230200" y="3198960"/>
            <a:ext cx="831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 WET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02200" y="3673440"/>
            <a:ext cx="106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 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514760" y="1560600"/>
            <a:ext cx="971640" cy="6206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 to 30 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eorologic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917240" y="1373040"/>
            <a:ext cx="292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Lake level projected to rise to High Lake Management B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093760" y="4784760"/>
            <a:ext cx="898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56920" y="525456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143840" y="5783400"/>
            <a:ext cx="71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WET TO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649600" y="5337000"/>
            <a:ext cx="568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571760" y="506880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bu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232680" y="5775480"/>
            <a:ext cx="950760" cy="6238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ulti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918560" y="6386400"/>
            <a:ext cx="1042920" cy="3477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45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00 cf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958160" y="3902040"/>
            <a:ext cx="1001520" cy="4143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3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17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956720" y="4363920"/>
            <a:ext cx="996840" cy="303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45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921800" y="1150920"/>
            <a:ext cx="1025280" cy="4716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p to Maximum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ischarge Capac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Tidewa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2" name=""/>
          <p:cNvCxnSpPr>
            <a:stCxn id="106" idx="2"/>
          </p:cNvCxnSpPr>
          <p:nvPr/>
        </p:nvCxnSpPr>
        <p:spPr>
          <a:xfrm flipH="1" rot="16200000">
            <a:off x="3201840" y="4878720"/>
            <a:ext cx="573840" cy="2775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3" name=""/>
          <p:cNvCxnSpPr>
            <a:stCxn id="114" idx="2"/>
            <a:endCxn id="115" idx="0"/>
          </p:cNvCxnSpPr>
          <p:nvPr/>
        </p:nvCxnSpPr>
        <p:spPr>
          <a:xfrm flipH="1">
            <a:off x="3297960" y="5286240"/>
            <a:ext cx="3960" cy="232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16" name=""/>
          <p:cNvSpPr/>
          <p:nvPr/>
        </p:nvSpPr>
        <p:spPr>
          <a:xfrm>
            <a:off x="0" y="0"/>
            <a:ext cx="9144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8 L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 D: Establish Allowable Lake Okeechobee Releases to Tide (Estua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2840" y="2738520"/>
            <a:ext cx="1158840" cy="6904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ake Okeechob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"/>
          <p:cNvCxnSpPr>
            <a:stCxn id="117" idx="0"/>
          </p:cNvCxnSpPr>
          <p:nvPr/>
        </p:nvCxnSpPr>
        <p:spPr>
          <a:xfrm flipV="1">
            <a:off x="622080" y="2509200"/>
            <a:ext cx="28620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9" name=""/>
          <p:cNvCxnSpPr>
            <a:stCxn id="117" idx="1"/>
          </p:cNvCxnSpPr>
          <p:nvPr/>
        </p:nvCxnSpPr>
        <p:spPr>
          <a:xfrm flipV="1">
            <a:off x="212760" y="1434600"/>
            <a:ext cx="613440" cy="14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>
            <a:off x="622440" y="3428640"/>
            <a:ext cx="227520" cy="31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21" name=""/>
          <p:cNvSpPr/>
          <p:nvPr/>
        </p:nvSpPr>
        <p:spPr>
          <a:xfrm>
            <a:off x="2139480" y="6361200"/>
            <a:ext cx="464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 *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08640" y="57895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OR WET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92280" y="342900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bu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79680" y="1881360"/>
            <a:ext cx="1058760" cy="9507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bu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" name=""/>
          <p:cNvCxnSpPr>
            <a:stCxn id="126" idx="3"/>
            <a:endCxn id="124" idx="1"/>
          </p:cNvCxnSpPr>
          <p:nvPr/>
        </p:nvCxnSpPr>
        <p:spPr>
          <a:xfrm flipV="1">
            <a:off x="1396800" y="2356920"/>
            <a:ext cx="183240" cy="13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27" name=""/>
          <p:cNvCxnSpPr>
            <a:stCxn id="128" idx="3"/>
            <a:endCxn id="123" idx="1"/>
          </p:cNvCxnSpPr>
          <p:nvPr/>
        </p:nvCxnSpPr>
        <p:spPr>
          <a:xfrm>
            <a:off x="1397160" y="3884400"/>
            <a:ext cx="1958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14" name=""/>
          <p:cNvSpPr/>
          <p:nvPr/>
        </p:nvSpPr>
        <p:spPr>
          <a:xfrm>
            <a:off x="2876400" y="4643280"/>
            <a:ext cx="851040" cy="6429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ake St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thin 1.0 ft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>
            <a:stCxn id="106" idx="0"/>
            <a:endCxn id="114" idx="1"/>
          </p:cNvCxnSpPr>
          <p:nvPr/>
        </p:nvCxnSpPr>
        <p:spPr>
          <a:xfrm flipH="1" flipV="1" rot="5400000">
            <a:off x="2437200" y="4629600"/>
            <a:ext cx="103680" cy="775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30" name=""/>
          <p:cNvSpPr/>
          <p:nvPr/>
        </p:nvSpPr>
        <p:spPr>
          <a:xfrm>
            <a:off x="4343400" y="5791320"/>
            <a:ext cx="1066680" cy="6188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log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"/>
          <p:cNvCxnSpPr>
            <a:endCxn id="132" idx="0"/>
          </p:cNvCxnSpPr>
          <p:nvPr/>
        </p:nvCxnSpPr>
        <p:spPr>
          <a:xfrm>
            <a:off x="4928760" y="5286240"/>
            <a:ext cx="3515400" cy="580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33" name=""/>
          <p:cNvCxnSpPr>
            <a:stCxn id="106" idx="3"/>
          </p:cNvCxnSpPr>
          <p:nvPr/>
        </p:nvCxnSpPr>
        <p:spPr>
          <a:xfrm>
            <a:off x="2630520" y="5524200"/>
            <a:ext cx="6768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34" name=""/>
          <p:cNvSpPr/>
          <p:nvPr/>
        </p:nvSpPr>
        <p:spPr>
          <a:xfrm>
            <a:off x="4419720" y="4645080"/>
            <a:ext cx="990360" cy="6429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log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14" idx="3"/>
            <a:endCxn id="134" idx="1"/>
          </p:cNvCxnSpPr>
          <p:nvPr/>
        </p:nvCxnSpPr>
        <p:spPr>
          <a:xfrm>
            <a:off x="3727080" y="4965840"/>
            <a:ext cx="6930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36" name=""/>
          <p:cNvCxnSpPr>
            <a:stCxn id="134" idx="3"/>
            <a:endCxn id="137" idx="1"/>
          </p:cNvCxnSpPr>
          <p:nvPr/>
        </p:nvCxnSpPr>
        <p:spPr>
          <a:xfrm flipV="1">
            <a:off x="5409720" y="4961880"/>
            <a:ext cx="2531160" cy="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38" name=""/>
          <p:cNvCxnSpPr>
            <a:stCxn id="107" idx="2"/>
          </p:cNvCxnSpPr>
          <p:nvPr/>
        </p:nvCxnSpPr>
        <p:spPr>
          <a:xfrm>
            <a:off x="6708240" y="63990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39" name=""/>
          <p:cNvCxnSpPr>
            <a:stCxn id="115" idx="6"/>
            <a:endCxn id="107" idx="0"/>
          </p:cNvCxnSpPr>
          <p:nvPr/>
        </p:nvCxnSpPr>
        <p:spPr>
          <a:xfrm>
            <a:off x="3303720" y="5522760"/>
            <a:ext cx="3405600" cy="253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40" name=""/>
          <p:cNvSpPr/>
          <p:nvPr/>
        </p:nvSpPr>
        <p:spPr>
          <a:xfrm>
            <a:off x="4108320" y="3878280"/>
            <a:ext cx="9720" cy="9360"/>
          </a:xfrm>
          <a:prstGeom prst="flowChartConnector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0" bIns="-39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94000" y="5518080"/>
            <a:ext cx="9720" cy="9720"/>
          </a:xfrm>
          <a:prstGeom prst="flowChartConnector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960" bIns="-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234120" y="4108320"/>
            <a:ext cx="950760" cy="6112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ulti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940520" y="3413160"/>
            <a:ext cx="1006560" cy="3697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7 Up to 4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8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921800" y="2317680"/>
            <a:ext cx="1019160" cy="4017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3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17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924680" y="1752480"/>
            <a:ext cx="1013040" cy="465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7 Up to 65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8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514760" y="2500200"/>
            <a:ext cx="971640" cy="6746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 to 30 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eorologic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629160" y="3027240"/>
            <a:ext cx="971280" cy="6746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 to 30 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eorologic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>
            <a:stCxn id="141" idx="0"/>
            <a:endCxn id="109" idx="1"/>
          </p:cNvCxnSpPr>
          <p:nvPr/>
        </p:nvCxnSpPr>
        <p:spPr>
          <a:xfrm>
            <a:off x="6710400" y="4107960"/>
            <a:ext cx="124848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48" name=""/>
          <p:cNvCxnSpPr>
            <a:stCxn id="97" idx="3"/>
            <a:endCxn id="141" idx="1"/>
          </p:cNvCxnSpPr>
          <p:nvPr/>
        </p:nvCxnSpPr>
        <p:spPr>
          <a:xfrm>
            <a:off x="4641480" y="4406760"/>
            <a:ext cx="1593000" cy="8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49" name=""/>
          <p:cNvCxnSpPr>
            <a:stCxn id="123" idx="2"/>
            <a:endCxn id="97" idx="1"/>
          </p:cNvCxnSpPr>
          <p:nvPr/>
        </p:nvCxnSpPr>
        <p:spPr>
          <a:xfrm flipH="1" rot="16200000">
            <a:off x="2814480" y="3646800"/>
            <a:ext cx="67320" cy="1453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50" name=""/>
          <p:cNvCxnSpPr>
            <a:stCxn id="123" idx="0"/>
            <a:endCxn id="146" idx="1"/>
          </p:cNvCxnSpPr>
          <p:nvPr/>
        </p:nvCxnSpPr>
        <p:spPr>
          <a:xfrm flipH="1" flipV="1" rot="5400000">
            <a:off x="2843640" y="2643480"/>
            <a:ext cx="64080" cy="1507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51" name=""/>
          <p:cNvCxnSpPr>
            <a:stCxn id="123" idx="3"/>
            <a:endCxn id="140" idx="2"/>
          </p:cNvCxnSpPr>
          <p:nvPr/>
        </p:nvCxnSpPr>
        <p:spPr>
          <a:xfrm flipV="1">
            <a:off x="2651040" y="3882240"/>
            <a:ext cx="14580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52" name=""/>
          <p:cNvCxnSpPr>
            <a:stCxn id="97" idx="0"/>
            <a:endCxn id="140" idx="4"/>
          </p:cNvCxnSpPr>
          <p:nvPr/>
        </p:nvCxnSpPr>
        <p:spPr>
          <a:xfrm flipV="1">
            <a:off x="4108320" y="3886920"/>
            <a:ext cx="5760" cy="150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53" name=""/>
          <p:cNvCxnSpPr>
            <a:stCxn id="146" idx="2"/>
            <a:endCxn id="140" idx="0"/>
          </p:cNvCxnSpPr>
          <p:nvPr/>
        </p:nvCxnSpPr>
        <p:spPr>
          <a:xfrm flipH="1">
            <a:off x="4113000" y="3701880"/>
            <a:ext cx="2160" cy="17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54" name=""/>
          <p:cNvCxnSpPr/>
          <p:nvPr/>
        </p:nvCxnSpPr>
        <p:spPr>
          <a:xfrm>
            <a:off x="4995720" y="1392120"/>
            <a:ext cx="2921760" cy="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55" name=""/>
          <p:cNvCxnSpPr>
            <a:stCxn id="100" idx="0"/>
          </p:cNvCxnSpPr>
          <p:nvPr/>
        </p:nvCxnSpPr>
        <p:spPr>
          <a:xfrm flipH="1" flipV="1">
            <a:off x="4995360" y="1386720"/>
            <a:ext cx="5760" cy="1738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56" name=""/>
          <p:cNvCxnSpPr>
            <a:stCxn id="124" idx="2"/>
            <a:endCxn id="145" idx="1"/>
          </p:cNvCxnSpPr>
          <p:nvPr/>
        </p:nvCxnSpPr>
        <p:spPr>
          <a:xfrm>
            <a:off x="2109960" y="2832120"/>
            <a:ext cx="240552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57" name=""/>
          <p:cNvSpPr/>
          <p:nvPr/>
        </p:nvSpPr>
        <p:spPr>
          <a:xfrm>
            <a:off x="7927920" y="2824200"/>
            <a:ext cx="1019160" cy="465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7 Up to 65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8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940520" y="4753080"/>
            <a:ext cx="1028880" cy="4172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7 Up to 4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8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927920" y="5865840"/>
            <a:ext cx="1031760" cy="439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3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17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94280" y="2349360"/>
            <a:ext cx="9360" cy="9720"/>
          </a:xfrm>
          <a:prstGeom prst="flowChartConnector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960" bIns="-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45" idx="0"/>
            <a:endCxn id="158" idx="4"/>
          </p:cNvCxnSpPr>
          <p:nvPr/>
        </p:nvCxnSpPr>
        <p:spPr>
          <a:xfrm flipH="1" flipV="1">
            <a:off x="4998240" y="2358720"/>
            <a:ext cx="2520" cy="141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60" name=""/>
          <p:cNvCxnSpPr>
            <a:stCxn id="100" idx="2"/>
            <a:endCxn id="158" idx="0"/>
          </p:cNvCxnSpPr>
          <p:nvPr/>
        </p:nvCxnSpPr>
        <p:spPr>
          <a:xfrm flipH="1">
            <a:off x="4998240" y="2180880"/>
            <a:ext cx="2520" cy="16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61" name=""/>
          <p:cNvCxnSpPr>
            <a:stCxn id="124" idx="3"/>
            <a:endCxn id="158" idx="2"/>
          </p:cNvCxnSpPr>
          <p:nvPr/>
        </p:nvCxnSpPr>
        <p:spPr>
          <a:xfrm flipV="1">
            <a:off x="2638440" y="2354040"/>
            <a:ext cx="2356560" cy="3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62" name=""/>
          <p:cNvSpPr/>
          <p:nvPr/>
        </p:nvSpPr>
        <p:spPr>
          <a:xfrm>
            <a:off x="6172200" y="2185920"/>
            <a:ext cx="984240" cy="6429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log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3" name=""/>
          <p:cNvCxnSpPr/>
          <p:nvPr/>
        </p:nvCxnSpPr>
        <p:spPr>
          <a:xfrm flipV="1">
            <a:off x="6664320" y="1980720"/>
            <a:ext cx="2160" cy="202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64" name=""/>
          <p:cNvCxnSpPr>
            <a:stCxn id="162" idx="3"/>
          </p:cNvCxnSpPr>
          <p:nvPr/>
        </p:nvCxnSpPr>
        <p:spPr>
          <a:xfrm>
            <a:off x="7156440" y="2508120"/>
            <a:ext cx="76896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65" name=""/>
          <p:cNvCxnSpPr>
            <a:stCxn id="124" idx="0"/>
            <a:endCxn id="100" idx="1"/>
          </p:cNvCxnSpPr>
          <p:nvPr/>
        </p:nvCxnSpPr>
        <p:spPr>
          <a:xfrm flipV="1">
            <a:off x="2109960" y="1870920"/>
            <a:ext cx="2405520" cy="10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66" name=""/>
          <p:cNvCxnSpPr>
            <a:stCxn id="158" idx="6"/>
          </p:cNvCxnSpPr>
          <p:nvPr/>
        </p:nvCxnSpPr>
        <p:spPr>
          <a:xfrm flipV="1">
            <a:off x="5003280" y="1980360"/>
            <a:ext cx="1661400" cy="3740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67" name=""/>
          <p:cNvCxnSpPr>
            <a:endCxn id="144" idx="1"/>
          </p:cNvCxnSpPr>
          <p:nvPr/>
        </p:nvCxnSpPr>
        <p:spPr>
          <a:xfrm>
            <a:off x="6659640" y="1981080"/>
            <a:ext cx="1265760" cy="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68" name=""/>
          <p:cNvCxnSpPr>
            <a:stCxn id="145" idx="3"/>
            <a:endCxn id="162" idx="1"/>
          </p:cNvCxnSpPr>
          <p:nvPr/>
        </p:nvCxnSpPr>
        <p:spPr>
          <a:xfrm flipV="1">
            <a:off x="5486040" y="2507760"/>
            <a:ext cx="686520" cy="331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69" name=""/>
          <p:cNvCxnSpPr>
            <a:stCxn id="146" idx="3"/>
            <a:endCxn id="157" idx="1"/>
          </p:cNvCxnSpPr>
          <p:nvPr/>
        </p:nvCxnSpPr>
        <p:spPr>
          <a:xfrm flipV="1">
            <a:off x="4600080" y="3057120"/>
            <a:ext cx="3328200" cy="3088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70" name=""/>
          <p:cNvCxnSpPr>
            <a:stCxn id="140" idx="6"/>
            <a:endCxn id="142" idx="1"/>
          </p:cNvCxnSpPr>
          <p:nvPr/>
        </p:nvCxnSpPr>
        <p:spPr>
          <a:xfrm flipV="1">
            <a:off x="4118040" y="3598560"/>
            <a:ext cx="3823200" cy="28440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71" name=""/>
          <p:cNvCxnSpPr>
            <a:stCxn id="141" idx="2"/>
            <a:endCxn id="110" idx="1"/>
          </p:cNvCxnSpPr>
          <p:nvPr/>
        </p:nvCxnSpPr>
        <p:spPr>
          <a:xfrm flipH="1" flipV="1" rot="5400000">
            <a:off x="7231680" y="3994560"/>
            <a:ext cx="203760" cy="1246680"/>
          </a:xfrm>
          <a:prstGeom prst="bentConnector4">
            <a:avLst>
              <a:gd name="adj1" fmla="val -60000"/>
              <a:gd name="adj2" fmla="val 69064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72" name=""/>
          <p:cNvSpPr/>
          <p:nvPr/>
        </p:nvSpPr>
        <p:spPr>
          <a:xfrm>
            <a:off x="3695040" y="479412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376960" y="4784760"/>
            <a:ext cx="71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105520" y="5105520"/>
            <a:ext cx="79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THER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193480" y="4229280"/>
            <a:ext cx="424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665080" y="3692520"/>
            <a:ext cx="1104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 WET</a:t>
            </a: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484880" y="3193920"/>
            <a:ext cx="1777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Lake level projected to rise to Hig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095720" y="3886200"/>
            <a:ext cx="172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EITHER FORECAST INDICA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4238640"/>
            <a:ext cx="153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BOTH FORECAS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INDICATE  DRY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592320" y="3890880"/>
            <a:ext cx="1351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883200" y="464508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163600" y="1709640"/>
            <a:ext cx="744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660760" y="2174760"/>
            <a:ext cx="107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 WET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306520" y="265284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023440" y="2336760"/>
            <a:ext cx="81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680880" y="1968480"/>
            <a:ext cx="114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WET TO 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445000" y="266400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075080" y="2473200"/>
            <a:ext cx="64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O  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"/>
          <p:cNvCxnSpPr/>
          <p:nvPr/>
        </p:nvCxnSpPr>
        <p:spPr>
          <a:xfrm>
            <a:off x="4876920" y="6552720"/>
            <a:ext cx="18295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90" name=""/>
          <p:cNvCxnSpPr/>
          <p:nvPr/>
        </p:nvCxnSpPr>
        <p:spPr>
          <a:xfrm>
            <a:off x="6706800" y="6554520"/>
            <a:ext cx="12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91" name=""/>
          <p:cNvSpPr/>
          <p:nvPr/>
        </p:nvSpPr>
        <p:spPr>
          <a:xfrm>
            <a:off x="190440" y="639720"/>
            <a:ext cx="2395440" cy="474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te:  This operational guidance provides essential supplementary information to be used in </a:t>
            </a:r>
            <a:r>
              <a:rPr b="0" lang="en-US" sz="700" spc="-1" strike="noStrike" u="sng">
                <a:solidFill>
                  <a:srgbClr val="000000"/>
                </a:solidFill>
                <a:uFillTx/>
                <a:latin typeface="Arial"/>
              </a:rPr>
              <a:t>conjunction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with other supporting documentation including text within the Water Control Plan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965840" y="2149560"/>
            <a:ext cx="106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 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838080" y="1295280"/>
            <a:ext cx="228600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igh Lake Management Ban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71400" y="2235240"/>
            <a:ext cx="72576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14360" y="3749760"/>
            <a:ext cx="98280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20640" y="5362560"/>
            <a:ext cx="72540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ow 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142360" y="6629400"/>
            <a:ext cx="4742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* Very Dry Conditions may require that releases to tide (estuaries) be discontinu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90440" y="3327480"/>
            <a:ext cx="611280" cy="2027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49280" y="5524560"/>
            <a:ext cx="21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5407200" y="6092640"/>
            <a:ext cx="828360" cy="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7175520" y="6079680"/>
            <a:ext cx="752400" cy="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644200" y="5881680"/>
            <a:ext cx="61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614400" y="4133880"/>
            <a:ext cx="930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 &amp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eorologica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024520" y="6357960"/>
            <a:ext cx="79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THER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726600" y="6353280"/>
            <a:ext cx="1098000" cy="3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THER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(NORMAL TO DRY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" y="3333600"/>
            <a:ext cx="244440" cy="309888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62000" y="6438960"/>
            <a:ext cx="998640" cy="261360"/>
          </a:xfrm>
          <a:prstGeom prst="rect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ase Flow 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1152360" y="6216120"/>
            <a:ext cx="165240" cy="21276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rot="5400000">
            <a:off x="-175320" y="5853960"/>
            <a:ext cx="838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igure 7-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619600" y="679320"/>
            <a:ext cx="2578320" cy="52416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Apply Meteorological Forecasts on 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Weekly Basis; apply Seasonal and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Multi-Seasonal Climate/Hydrologic Outlooks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on a Monthly Basis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743200" y="673200"/>
            <a:ext cx="2886120" cy="53316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When conducting Base Flow releases,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flows can be distributed East and Wes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up to 650 cfs as neede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to minimize impacts or provide benefits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through S-80 and S-79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51040" y="5872320"/>
            <a:ext cx="1025280" cy="338040"/>
          </a:xfrm>
          <a:prstGeom prst="flowChartProcess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45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76920" y="640872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127320" y="139068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3" name=""/>
          <p:cNvCxnSpPr>
            <a:endCxn id="130" idx="1"/>
          </p:cNvCxnSpPr>
          <p:nvPr/>
        </p:nvCxnSpPr>
        <p:spPr>
          <a:xfrm>
            <a:off x="2625480" y="5524200"/>
            <a:ext cx="1718280" cy="577080"/>
          </a:xfrm>
          <a:prstGeom prst="bentConnector3">
            <a:avLst>
              <a:gd name="adj1" fmla="val 83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5T13:55:24Z</dcterms:created>
  <dc:creator>USACE</dc:creator>
  <dc:description/>
  <dc:language>en-US</dc:language>
  <cp:lastModifiedBy>dlyons</cp:lastModifiedBy>
  <dcterms:modified xsi:type="dcterms:W3CDTF">2008-08-27T13:55:25Z</dcterms:modified>
  <cp:revision>22</cp:revision>
  <dc:subject/>
  <dc:title>Slide 1</dc:title>
</cp:coreProperties>
</file>