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AC3-69EE-4902-9CAF-6CAA64FE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363-1C07-445A-9F46-8D4C6DAC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3F7-A67B-4250-A9E8-ADA5F26F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5D0-DAFF-43AA-92E0-A7B15A5D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222-8A4E-4D35-8719-47D791B2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940-B60A-42BB-9170-F73799A8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18A-D3D4-401C-A65A-356DC718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A95-85BC-4E97-AB40-DD1ED22E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EB7-7C59-4661-9F30-B130ADBE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A22-B10B-4541-83BF-30457496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719-3B27-4E73-AABE-7007EDB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F0D-F30D-47AA-B1C6-F0A0B6F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BF44-FB9C-43CA-9688-CF7BDA648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31280" y="6353280"/>
            <a:ext cx="1098000" cy="39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8880" y="5881680"/>
            <a:ext cx="6166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560" y="6357960"/>
            <a:ext cx="7995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1-19T16:40:57Z</dcterms:modified>
  <cp:revision>7</cp:revision>
  <dc:subject/>
  <dc:title>Slide 1</dc:title>
</cp:coreProperties>
</file>