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F515-E12A-41F3-865C-85E74DC4D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6495-A02A-4C7F-8022-70A2B688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FA68-5C0E-4BD4-A1EC-EE8E5CFB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0F77-F9BB-48FE-941F-943635A63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F283-F30E-4F69-9B5B-1817544C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FB41-4F77-4C8F-93BA-04367A7B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2A15-B974-4299-9471-9496C8BB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049B-4BC2-4D41-AF52-5BDB6AE7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11FD-D9FF-4CA5-805B-2BE1797E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EBD5-6752-4A7D-9B2F-E9DF9FAB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3858-365C-41AC-85E4-F9D34ECD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AAD1-047E-4009-BBB7-FACFCEAA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4CEA-764C-41A5-BD4B-A96EDB319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V="1">
            <a:off x="2781360" y="5555880"/>
            <a:ext cx="0" cy="2732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86040" y="51386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dlyons</cp:lastModifiedBy>
  <dcterms:modified xsi:type="dcterms:W3CDTF">2008-12-10T16:26:11Z</dcterms:modified>
  <cp:revision>29</cp:revision>
  <dc:subject/>
  <dc:title>Slide 1</dc:title>
</cp:coreProperties>
</file>