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A5F-0F13-458B-BD23-5BB517DA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487-32F0-4628-ACD4-A2448C2E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1D7-56F9-4600-B212-1B11104A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38D-AA8A-4540-9197-480BFB17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D2D-5BC9-418A-A8E3-D29B1EAE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B6A-DA4A-4E7A-9EE2-8FAA0843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263-A74A-461F-AC89-03877C55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DB4-02B8-4C15-A31A-708EAE06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EE7-5967-4AD2-86B0-906C6AD4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E6A-F620-4759-A956-C9D4EBE0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D60-E61D-42DE-B9EC-0704BB87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113A-1235-4271-8396-2A034668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7BDE-EC78-4010-B5DB-2E92D71BC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12-02T15:31:24Z</dcterms:modified>
  <cp:revision>28</cp:revision>
  <dc:subject/>
  <dc:title>Slide 1</dc:title>
</cp:coreProperties>
</file>