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7EA-EC19-49FF-9DFA-4754F117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E8F-EF50-421F-BFE9-CCEA9D53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240-0025-495B-BE15-ACCA9155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5D6-A80F-45BF-8990-44351644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75C-3AFB-4DBD-8FA1-2FC61F40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686-2BC7-4C98-A2FF-C81D3758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089-28FC-4D42-931B-D57826AC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6B3-AEB2-41CF-ACAB-D6D3827D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3E1-347A-43C9-900A-115E5FAE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1F9-F24F-4A10-AC6C-6ED3270E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ACF-3801-4AEF-8DD6-3E6C7B41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4FF-3339-4CB2-B25B-82E5FF50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3116-0F8C-43C9-8EAC-89D546C11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12-10T16:26:11Z</dcterms:modified>
  <cp:revision>29</cp:revision>
  <dc:subject/>
  <dc:title>Slide 1</dc:title>
</cp:coreProperties>
</file>