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05C-521B-4C69-8A91-D920DD8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4C4-144F-4394-8D95-C5FE6EF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2EA-3CA6-4E1A-8336-C29BD436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00C-F39F-470D-BE9F-0E7F9AC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B0D-3EEF-49AC-911D-7E949950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9FA-E879-41F6-AECC-D2D28819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B97-76B0-4474-A34F-CD89CFC7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4CE-F065-4D4D-889C-10AD6A65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640-B288-497F-B856-EB11991D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2F6-817D-474C-94C4-E0E0BE6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8F6-72B6-401E-89EE-FABF0248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F8E-42AD-4815-A097-4EDF254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EDB-5853-4329-969F-C2DA11EB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2-10T16:26:11Z</dcterms:modified>
  <cp:revision>29</cp:revision>
  <dc:subject/>
  <dc:title>Slide 1</dc:title>
</cp:coreProperties>
</file>