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78B-4398-475F-A60D-57B5488C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2FC-0E27-4166-8FB5-A37B777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8D5-5EF9-4AED-84EB-D00EF706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6F0-568A-4A30-9954-D29E0676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8EB-6169-42C6-AE1C-1A6C3784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7AF-66F1-4938-A672-672DEB5E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E75-881B-46F9-B9DC-9A9002C6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161-E27A-4905-95E7-7346542B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C47-A6C8-48E3-91C9-214EA61C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E32-7335-4C0F-BAD5-7C6F277E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788-81DB-4D67-BD39-0DBA618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DD2-8EEA-4E86-9222-EB68194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AEBA-39F1-4669-B761-9BE4062A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orapatt "Don" Ketprakong</cp:lastModifiedBy>
  <dcterms:modified xsi:type="dcterms:W3CDTF">2008-12-30T14:30:40Z</dcterms:modified>
  <cp:revision>30</cp:revision>
  <dc:subject/>
  <dc:title>Slide 1</dc:title>
</cp:coreProperties>
</file>