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D86-8172-409E-8C5A-BF7A57F2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B59-7C1F-4BDE-B354-617762CD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A24-4BD2-4869-A47B-A131BD08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A45-19CE-4234-9504-D4B85948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2EE-6BD9-4EED-BC16-9878134C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324-E40A-4455-9771-022BCAFC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EAC-0E18-43F8-BAA4-9AB93FEE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980-92B8-48BB-A110-280AC5B0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0C5-C9A1-4CD6-8EE5-6EB0CF71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EC9-08A3-48A9-B51A-C6D8AB6B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433-3DF5-4C6C-895A-E0924C39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C9F-BDF0-4082-94DF-61181126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381C-5349-4A22-9D3B-B914A271B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10-06T14:27:55Z</dcterms:modified>
  <cp:revision>20</cp:revision>
  <dc:subject/>
  <dc:title>Slide 1</dc:title>
</cp:coreProperties>
</file>