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9F098C-86C9-4579-B005-64792141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68BA61-0D9A-4BB4-9317-075DFBD1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091200" y="1519200"/>
            <a:ext cx="2736720" cy="3944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195720" y="1519200"/>
            <a:ext cx="2744640" cy="39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299880" y="1519200"/>
            <a:ext cx="2737080" cy="3936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168960" y="501480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388440" y="5014800"/>
            <a:ext cx="106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285000" y="500868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443480" y="1312920"/>
            <a:ext cx="421632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4797360" y="1353960"/>
            <a:ext cx="1793880" cy="24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705720" y="1352520"/>
            <a:ext cx="1793880" cy="24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6696000" y="3935520"/>
            <a:ext cx="1811520" cy="246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565200" y="1371600"/>
            <a:ext cx="368928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831040" y="1452600"/>
            <a:ext cx="119412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54120" y="5199120"/>
            <a:ext cx="1492200" cy="1160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718760" y="398952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47760" y="14065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16800" y="1420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jgodin</cp:lastModifiedBy>
  <dcterms:modified xsi:type="dcterms:W3CDTF">2009-11-03T14:54:30Z</dcterms:modified>
  <cp:revision>2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1811807</vt:r8>
  </property>
  <property fmtid="{D5CDD505-2E9C-101B-9397-08002B2CF9AE}" pid="3" name="_AuthorEmail">
    <vt:lpwstr>sbousqu@sfwmd.gov</vt:lpwstr>
  </property>
  <property fmtid="{D5CDD505-2E9C-101B-9397-08002B2CF9AE}" pid="4" name="_AuthorEmailDisplayName">
    <vt:lpwstr>Bousquin, Steve</vt:lpwstr>
  </property>
  <property fmtid="{D5CDD505-2E9C-101B-9397-08002B2CF9AE}" pid="5" name="_EmailSubject">
    <vt:lpwstr>Kissimmee Watershed Environmental Conditions – 11/3/2009</vt:lpwstr>
  </property>
  <property fmtid="{D5CDD505-2E9C-101B-9397-08002B2CF9AE}" pid="6" name="_NewReviewCycle">
    <vt:lpwstr/>
  </property>
  <property fmtid="{D5CDD505-2E9C-101B-9397-08002B2CF9AE}" pid="7" name="_PreviousAdHocReviewCycleID">
    <vt:r8>948851234</vt:r8>
  </property>
</Properties>
</file>