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7F2-6AE5-4E5A-9D73-133B8866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55E-5C77-43D0-B242-A0BE80A6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F5D-1211-438B-9175-CC84B0EB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61D-1470-4F90-9F08-690330D2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06B-42AA-406A-B164-31294C5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F40-B175-4FEA-8E9C-AE7EC790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7BD-5777-4148-8249-8554714A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1CD-7400-435A-B7C4-70635E5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782-19A3-4511-BE4B-7FE3B479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90B-0CCD-410D-B30A-1815442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9E2-F683-4B8F-B0B9-F27446C4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44B-0686-41B4-BA2B-5A120C4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FDD-D975-4DE0-B0BA-D580230A1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234324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4257720" y="762120"/>
            <a:ext cx="220356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080" y="5819760"/>
            <a:ext cx="1443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960" y="5548320"/>
            <a:ext cx="6480" cy="262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10-27T17:21:44Z</dcterms:modified>
  <cp:revision>43</cp:revision>
  <dc:subject/>
  <dc:title>Slide 1</dc:title>
</cp:coreProperties>
</file>