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DD7-6593-44EB-A9BA-25D26E75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730-019F-4D54-BC92-8EC65BFC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BEA-5FD0-4938-8A4A-A6B35336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95E-B94B-47F0-845F-3B8BE7AD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D19-3F1A-41D5-A2A2-B31D4DE9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70B-16E2-43D8-8F71-D737C756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AA1-F83F-4F6F-8F1A-B4D89665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BDF-D9AD-4BE9-94FC-844939CB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BEB-08A9-46F2-B025-19B0F2E5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CA7-2E6E-440E-9DA3-BC1B9F94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68B-A545-4779-A272-16053C9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A66-AF95-4906-BD40-BACBD2E9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F591-2BCB-4EE3-90EE-9A91184D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31280" y="6353280"/>
            <a:ext cx="1098000" cy="3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8880" y="5881680"/>
            <a:ext cx="6166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560" y="6357960"/>
            <a:ext cx="7995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1-19T16:40:57Z</dcterms:modified>
  <cp:revision>7</cp:revision>
  <dc:subject/>
  <dc:title>Slide 1</dc:title>
</cp:coreProperties>
</file>