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3BB-C01C-4BBC-A9DA-AA201863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409-CC01-4ED8-8A2A-3494C230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1D9-78C9-4483-B492-1AB67C25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564-3114-4CA9-A17A-06DE0B6B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F50-961C-4CBD-A249-F7395406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70F-5326-4D05-AC24-0FB83DD8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5F4-366E-4F62-91FB-D8FD59A4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708-3CF0-474A-B6B8-A98909D1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CA2-D011-48BD-B885-AB8AF45B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3EF-A861-4A2E-97C7-89E0C0A8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E60-B807-463C-B028-F3FD057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0E2-842D-435F-A8F2-76F8F882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26F9-B9FC-4630-A559-6DDB4406C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1-19T16:42:41Z</dcterms:modified>
  <cp:revision>27</cp:revision>
  <dc:subject/>
  <dc:title>Slide 1</dc:title>
</cp:coreProperties>
</file>