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3ED-2F3A-4ED2-81D8-46D885E1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D81-5022-4EF1-90F9-DCC8818F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89C-0B52-4D81-A3FE-6076613A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A91-412A-4E10-B13C-AFA892C7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99E-DA99-4429-90D1-F96F515D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436-F6A9-4027-B707-2C7D7FAB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DF4-F932-450C-979C-38A978C2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438-BCC9-4498-BF43-96B0394A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59E-EF16-4AEE-99B8-2124BE92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D78-1807-4BF6-8016-EF9D23F4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356-876F-4760-9EA4-4A9F299B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157-2E8D-4494-8A9A-3A0D59DF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8824-804C-4AD9-8273-BF58CBB74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11-19T16:42:41Z</dcterms:modified>
  <cp:revision>27</cp:revision>
  <dc:subject/>
  <dc:title>Slide 1</dc:title>
</cp:coreProperties>
</file>