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AD4-B85C-4B25-9B46-4CF73032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D50-FBC9-47F2-BB36-D079BE1E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10A-99F3-4717-BAE1-EBF831FF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20A-FF10-4AF2-BD71-8ACAC7D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ADF-D7A1-4C02-A99C-B5E4C0D5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693-ABE9-45B6-9C2F-7461E00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EC6-3CBD-4F7B-AAF9-9615B464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6A3-7D63-42FE-9C23-ECFF4BF2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088-DB28-407A-A858-EB41323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414-DE75-4162-9F20-FF1363C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384-9A65-4C4D-A749-1359FC0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814-9622-4382-A39B-830C8B4C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59D2-C64B-4411-A0B8-22534D93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31280" y="6353280"/>
            <a:ext cx="1098000" cy="3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8880" y="5881680"/>
            <a:ext cx="6166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560" y="6357960"/>
            <a:ext cx="7995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1-19T16:40:57Z</dcterms:modified>
  <cp:revision>7</cp:revision>
  <dc:subject/>
  <dc:title>Slide 1</dc:title>
</cp:coreProperties>
</file>