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07C-C486-4B07-BAF2-51AC9430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CB95-5FDC-4C65-991D-30C390B2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EB3-D8FE-46E6-99D7-15DA67AD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50F-D3C1-49CD-BB2B-620486AC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206-3BC6-40A3-9698-7A6CB156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156-DB15-48E9-81BA-4283F8A9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549-8333-474A-81FA-66FB7CE6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D90-D1A1-4073-AD8C-93EDE04F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2E6-C566-4E3B-A2A4-2AC85040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ED3-C5B7-41EC-8266-7D473D56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A7E-8ECB-4A2A-BD5B-DD2E6AC3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225-5E8F-48F0-960E-8923D344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1717-3410-4736-BA03-C11F9F782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10-08T15:23:03Z</dcterms:modified>
  <cp:revision>25</cp:revision>
  <dc:subject/>
  <dc:title>Slide 1</dc:title>
</cp:coreProperties>
</file>