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92A-CCCA-44C9-A0E4-D42D29D0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FC0-CE99-4F49-AC10-82AB4AF7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C71-C81A-40E1-8B19-40E72C57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0BC-3D9C-4A5B-B67E-32BF8972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820-2DC7-4756-9A7F-044426C7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B24-490F-457F-94F5-0565B992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9E3-9653-4842-A290-7D667D0D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37D-AC47-4E4B-BAE0-19C33BEF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6AE-7CE9-4734-80F5-9547947A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1EE-4D7F-46C9-933D-53E44BA6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D50-AE1F-4A48-A0F0-3865017F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0A7-5462-4882-804E-3E9E14D8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7285-B61C-4761-89C7-9D9874242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8" name=""/>
          <p:cNvCxnSpPr>
            <a:stCxn id="59" idx="2"/>
            <a:endCxn id="60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1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2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5" name=""/>
          <p:cNvCxnSpPr>
            <a:stCxn id="62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6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69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2" name=""/>
          <p:cNvCxnSpPr>
            <a:stCxn id="73" idx="3"/>
            <a:endCxn id="68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9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1" idx="0"/>
            <a:endCxn id="59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5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77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8" name=""/>
          <p:cNvCxnSpPr>
            <a:stCxn id="51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9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9" idx="3"/>
            <a:endCxn id="79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1" name=""/>
          <p:cNvCxnSpPr>
            <a:stCxn id="79" idx="3"/>
            <a:endCxn id="82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2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4" name=""/>
          <p:cNvCxnSpPr>
            <a:stCxn id="60" idx="6"/>
            <a:endCxn id="52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5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6" idx="0"/>
            <a:endCxn id="54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42" idx="3"/>
            <a:endCxn id="86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8" idx="2"/>
            <a:endCxn id="42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8" idx="0"/>
            <a:endCxn id="91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68" idx="3"/>
            <a:endCxn id="85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42" idx="0"/>
            <a:endCxn id="85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>
            <a:stCxn id="91" idx="2"/>
            <a:endCxn id="85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45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1" name=""/>
          <p:cNvCxnSpPr>
            <a:stCxn id="69" idx="2"/>
            <a:endCxn id="90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2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0" idx="0"/>
            <a:endCxn id="103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45" idx="2"/>
            <a:endCxn id="103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6" name=""/>
          <p:cNvCxnSpPr>
            <a:stCxn id="69" idx="3"/>
            <a:endCxn id="103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7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107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69" idx="0"/>
            <a:endCxn id="45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stCxn id="103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endCxn id="89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7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91" idx="3"/>
            <a:endCxn id="102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6"/>
            <a:endCxn id="87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"/>
          <p:cNvCxnSpPr>
            <a:stCxn id="86" idx="2"/>
            <a:endCxn id="55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136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5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10-08T15:25:49Z</dcterms:modified>
  <cp:revision>6</cp:revision>
  <dc:subject/>
  <dc:title>Slide 1</dc:title>
</cp:coreProperties>
</file>