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97D-35A8-401B-9BE2-6D62793F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876-8F92-4173-8D89-A82F8BD4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BEE4-49F3-42C9-A78C-F12B53D4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EB2-BB2C-477E-BF0C-0D3ECB9D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8100-8216-4EEE-A432-F67F887C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45E-0F06-4DAC-9CCB-18AB3040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573-D531-4AA3-B429-6551A8BD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642-25C8-4898-AA8F-03765FA1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593-5543-4949-A3FF-4A7A3F7B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0EE-56C3-47CD-9613-EF1A838C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A7B-DB1E-40D5-B3C5-B01FA6EC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F8E3-841E-40FD-88FC-1B9A3230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63F8-6644-4858-8C7A-344EB1335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AutoShape 6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AutoShape 7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AutoShape 8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AutoShape 11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AutoShape 12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AutoShape 13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AutoShape 16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AutoShape 17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AutoShape 20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AutoShape 21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AutoShape 23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24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AutoShape 25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AutoShape 26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AutoShape 27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AutoShape 28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Text Box 29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9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1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3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4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7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8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0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2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3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4"/>
          <p:cNvSpPr/>
          <p:nvPr/>
        </p:nvSpPr>
        <p:spPr>
          <a:xfrm>
            <a:off x="2784600" y="512460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58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Line 59"/>
          <p:cNvSpPr/>
          <p:nvPr/>
        </p:nvSpPr>
        <p:spPr>
          <a:xfrm flipH="1" flipV="1">
            <a:off x="2793600" y="554796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nketprak</cp:lastModifiedBy>
  <dcterms:modified xsi:type="dcterms:W3CDTF">2009-07-16T16:55:20Z</dcterms:modified>
  <cp:revision>36</cp:revision>
  <dc:subject/>
  <dc:title>Slide 1</dc:title>
</cp:coreProperties>
</file>