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F5A-92FA-4C7D-AD96-6B3B3CB9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31F-AA8F-413C-A3F1-81EFD801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2F7-80AC-4459-BC62-795F265E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87C-80F3-42E7-A834-281620B4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680-2DC6-4AF8-9165-09DCFA73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849-DE60-40FB-8BE7-70FFA8C1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2F1-691B-4120-B043-110DE10D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EBB-6BBC-459B-AD15-D1AA5F2F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98E-2642-436B-83D3-3B6D72FA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BAC-1E4C-4A48-9FD0-97FB3C45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426-4266-4C3B-B619-6D8CAB2D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797-53B7-46FF-B581-8224E58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116-A547-4205-AD1D-5E9F6B7E6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10-06T14:27:55Z</dcterms:modified>
  <cp:revision>20</cp:revision>
  <dc:subject/>
  <dc:title>Slide 1</dc:title>
</cp:coreProperties>
</file>