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928-FFDC-4D88-BCB2-B18E85D5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B58-057F-4E82-92CA-E3D23EC3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F847-7DCE-4F72-A09C-66E64E37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D70E-F6A6-4875-8929-92216D5D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F94-320A-40A2-B447-986520AD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8A0B-6512-4F14-BF7A-1668E2F9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9CB-4E64-4986-96D0-A42DF94E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0CB-CAF4-4BDC-B477-5887D46E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44C-8902-4BA0-9A15-2CA6D829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7CF-3B96-4E5C-AF45-A441C360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88D-0275-488E-94D2-B9DF3562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B29-4BFF-4D49-BD64-85C00322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FB35-3E3D-478E-901E-40A26CCA6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AutoShape 17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AutoShape 18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0" name="Text Box 19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0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21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AutoShape 23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Text Box 24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28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AutoShape 29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AutoShape 30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31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4" name="AutoShape 32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33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AutoShape 34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AutoShape 35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6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AutoShape 37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AutoShape 38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AutoShape 39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AutoShape 40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1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2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3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4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5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6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7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48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AutoShape 49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AutoShape 50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AutoShape 51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AutoShape 52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AutoShape 53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AutoShape 54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AutoShape 55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AutoShape 56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AutoShape 57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AutoShape 58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9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0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1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62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AutoShape 63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AutoShape 64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AutoShape 65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66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AutoShape 67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AutoShape 68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AutoShape 69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AutoShape 70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AutoShape 71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AutoShape 72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AutoShape 73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AutoShape 74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Text Box 75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6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7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8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9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0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1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2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3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4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5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6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7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8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9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0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1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92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AutoShape 93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AutoShape 94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5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6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8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9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0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1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2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3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4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5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6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7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8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9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0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1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2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3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14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5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6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7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118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nketprak</cp:lastModifiedBy>
  <dcterms:modified xsi:type="dcterms:W3CDTF">2009-07-16T16:51:51Z</dcterms:modified>
  <cp:revision>12</cp:revision>
  <dc:subject/>
  <dc:title>Slide 1</dc:title>
</cp:coreProperties>
</file>