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20B-46BF-4145-88E9-3873FBEC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41B-1359-4A50-B364-8A711141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8F3-0CE4-404C-8804-1263D0BF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807-4F4A-4322-990E-555763A6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E3F-2C94-4A86-BFE5-36C778AD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1A19-94C3-4684-A79B-143803D2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287-64DF-4F8E-B9B9-A7D7C69E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03D-0436-41FF-A18D-EBB81AF8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905-A89E-4044-A93D-43CCD352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FE8-6A0E-4B64-B168-6A170E31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5A9-831A-492D-B1DB-45EA0EE9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B34-8324-49B1-A6BE-703CBCEB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DE13-AE92-48B4-85E7-5835618A4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AutoShape 17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AutoShape 18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0" name="Text Box 19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0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21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AutoShape 23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Text Box 24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28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AutoShape 29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AutoShape 30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31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4" name="AutoShape 32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33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AutoShape 34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AutoShape 35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6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AutoShape 37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AutoShape 38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AutoShape 39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AutoShape 40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2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3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4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5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6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7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48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AutoShape 49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AutoShape 50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AutoShape 51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AutoShape 52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AutoShape 53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AutoShape 54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AutoShape 55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AutoShape 56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AutoShape 57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AutoShape 58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9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0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1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62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AutoShape 63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AutoShape 64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AutoShape 65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66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AutoShape 67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AutoShape 68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AutoShape 69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AutoShape 70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AutoShape 71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AutoShape 72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AutoShape 73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AutoShape 74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Text Box 75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6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7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8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9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0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2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3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4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5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6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7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8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9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0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1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92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AutoShape 93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AutoShape 94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5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6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8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9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0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1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2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3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4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5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6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7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8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9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0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1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2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3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14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5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6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7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118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nketprak</cp:lastModifiedBy>
  <dcterms:modified xsi:type="dcterms:W3CDTF">2009-07-16T16:51:51Z</dcterms:modified>
  <cp:revision>12</cp:revision>
  <dc:subject/>
  <dc:title>Slide 1</dc:title>
</cp:coreProperties>
</file>