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E1A-470E-46C6-AC3C-D7A4D3ED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544-D68F-4752-B260-B908ED02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9FC-A2BB-4C0A-8821-16FE8378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2E8-F698-4ED6-A91E-2B252BCD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70C-F31B-4D1B-8EC3-0528C5D9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9F7-3DC6-4742-9489-EB800688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098-682F-4919-835B-FE70E508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5A1-857E-46E7-BAD6-F3EA9466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B43-8858-4BC1-99E4-38202AE0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2B8-117D-4DD6-AADD-E806D356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612-378F-4D2E-BEFD-C1AE00BC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56C-B417-42FA-8B7B-EEF64E7D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B508-1715-4E39-8683-5E0F93039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080" y="5819760"/>
            <a:ext cx="14436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960" y="5548320"/>
            <a:ext cx="6480" cy="2620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10-06T14:25:07Z</dcterms:modified>
  <cp:revision>41</cp:revision>
  <dc:subject/>
  <dc:title>Slide 1</dc:title>
</cp:coreProperties>
</file>