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BD1-9445-4186-8781-D65C1497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57A-C378-45A3-8C03-7BBF2DED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ABB-2D7E-4FDD-80BA-92B245BD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7C5-7176-40FE-9EE6-B74AD5D5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8B7-3D6D-4B29-AD32-FE3058E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AAC-F414-4660-AD53-C7A8AC74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BEE-BA7A-482E-B48E-DDA89649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E79-8306-4031-BC6B-D70493F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222-C29A-439D-A097-7902E337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5C4-E909-48DF-948C-17FB0575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EF8-1E18-4763-B5F5-12BBD01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7DB-39AB-4144-8B90-9A7EA57E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D702-25FF-497F-A5E7-5DE3EE705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07-16T16:51:51Z</dcterms:modified>
  <cp:revision>12</cp:revision>
  <dc:subject/>
  <dc:title>Slide 1</dc:title>
</cp:coreProperties>
</file>