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869E-4A5D-4D05-AF66-64CE70DA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3C4C-FCD3-486A-8AEE-EFD888C4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4F65-68CA-4BFF-99B4-5563CD62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34ED-926C-4E3E-BC26-634F8F50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9F24-E69B-46EF-A31A-9430A150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8516-B455-4DEF-AF26-865A3693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7957-9892-4B6F-8615-A498C5E0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497C-1839-4400-8312-7D22A58A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DFDC-91A4-4F5A-80DD-85B81780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B1D-5332-4C32-9C31-1DEFF595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BF61-7A7D-481C-B5D1-83E4410D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1B75-68A8-4243-A1B1-05DD3DC9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3849-7BAB-4371-AE93-D15EA05D3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AutoShape 6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AutoShape 7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AutoShape 8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AutoShape 11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AutoShape 12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AutoShape 13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AutoShape 16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AutoShape 17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AutoShape 20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AutoShape 21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AutoShape 22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AutoShape 23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AutoShape 24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AutoShape 25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AutoShape 26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AutoShape 27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AutoShape 28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Text Box 29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2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3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7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8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9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1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3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4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5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7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8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0"/>
          <p:cNvSpPr/>
          <p:nvPr/>
        </p:nvSpPr>
        <p:spPr>
          <a:xfrm>
            <a:off x="234324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1"/>
          <p:cNvSpPr/>
          <p:nvPr/>
        </p:nvSpPr>
        <p:spPr>
          <a:xfrm>
            <a:off x="4257720" y="762120"/>
            <a:ext cx="220356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2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3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4"/>
          <p:cNvSpPr/>
          <p:nvPr/>
        </p:nvSpPr>
        <p:spPr>
          <a:xfrm>
            <a:off x="2784600" y="512460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5"/>
          <p:cNvSpPr/>
          <p:nvPr/>
        </p:nvSpPr>
        <p:spPr>
          <a:xfrm flipH="1">
            <a:off x="2665080" y="5819760"/>
            <a:ext cx="14436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6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7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58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Line 59"/>
          <p:cNvSpPr/>
          <p:nvPr/>
        </p:nvSpPr>
        <p:spPr>
          <a:xfrm flipH="1" flipV="1">
            <a:off x="2793960" y="5548320"/>
            <a:ext cx="6480" cy="26208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nketprak</cp:lastModifiedBy>
  <dcterms:modified xsi:type="dcterms:W3CDTF">2009-10-27T17:21:44Z</dcterms:modified>
  <cp:revision>43</cp:revision>
  <dc:subject/>
  <dc:title>Slide 1</dc:title>
</cp:coreProperties>
</file>