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D90-59E9-4E15-A971-52CD6B2B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B58-8278-4A24-89D3-E145EFF8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884-9D32-48F4-9E51-A075D519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DB5-2813-4E55-8EDB-DCAAF47B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197-2E6F-4864-B3F7-23BC35E2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67C-81EC-4421-8432-D84720D9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423-739C-4EFB-B59D-B954F4C8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422-5E90-4C1F-B8B2-3DE7B7D0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22A-1ADF-4E3E-ABBC-EBD281CA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744-1BFB-4C6F-AAA1-4208231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362-E1E5-4439-9D06-E07D882A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E13-464D-4B5C-B50C-15780952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A02-4775-40D4-B6F6-8EE820B51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600" y="55479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07-16T16:55:20Z</dcterms:modified>
  <cp:revision>36</cp:revision>
  <dc:subject/>
  <dc:title>Slide 1</dc:title>
</cp:coreProperties>
</file>