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6AE-A3B5-496D-A487-4765CD7A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F94-26DC-42BA-A608-4C106BE7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B35-DFE1-4883-9522-88FD7436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F65-A5A6-4327-BA61-9C86F683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2FE-4178-4B08-BCA2-A12219CE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256-BADF-4300-B5C7-FF1B6DE1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3EB-7DD8-431A-81AF-B24A0FA7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9DE-019A-494C-8B46-0ABBD060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FFB-1668-4388-8BD9-E60B66DB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067-6F7E-4203-9AD1-622135A5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475-F964-49E6-AA66-080F5A58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DDCB-30C3-4F2B-95D8-2BBD8A6F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E0A8-2B64-461A-8EE6-83BEF2347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AutoShape 17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AutoShape 18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lg" type="triangle" w="med"/>
          </a:ln>
        </p:spPr>
      </p:cxnSp>
      <p:sp>
        <p:nvSpPr>
          <p:cNvPr id="60" name="Text Box 19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0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21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AutoShape 23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Text Box 24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28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AutoShape 29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AutoShape 30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31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2060"/>
            </a:solidFill>
            <a:miter/>
            <a:tailEnd len="lg" type="triangle" w="med"/>
          </a:ln>
        </p:spPr>
      </p:cxnSp>
      <p:sp>
        <p:nvSpPr>
          <p:cNvPr id="74" name="AutoShape 32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33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AutoShape 34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AutoShape 35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6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AutoShape 37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AutoShape 38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AutoShape 39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AutoShape 40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2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3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4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5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6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7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48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AutoShape 49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AutoShape 50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AutoShape 51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AutoShape 52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AutoShape 53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AutoShape 54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AutoShape 55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AutoShape 56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AutoShape 57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AutoShape 58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9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0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1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62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AutoShape 63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AutoShape 64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AutoShape 65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66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AutoShape 67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AutoShape 68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AutoShape 69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AutoShape 70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AutoShape 71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AutoShape 72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AutoShape 73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AutoShape 74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Text Box 75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6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7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8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9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0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2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3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4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5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6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7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8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9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0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1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92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AutoShape 93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AutoShape 94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5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6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8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9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0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1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2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3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4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5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6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7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8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9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0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1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2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3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14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5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6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7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118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nketprak</cp:lastModifiedBy>
  <dcterms:modified xsi:type="dcterms:W3CDTF">2009-10-06T14:27:55Z</dcterms:modified>
  <cp:revision>20</cp:revision>
  <dc:subject/>
  <dc:title>Slide 1</dc:title>
</cp:coreProperties>
</file>