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106B-0835-435A-A971-1E55D3F2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DE13-76C8-43C5-9176-263F73F8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A96-2383-4018-9D9B-5ED23FE5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69D5-51E9-4BC8-A80B-43260A6C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A368-EC65-4074-8B25-C5C86786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536A-A225-4325-9ECA-C9E264DF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0692-0B15-4A08-814C-9C99928C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A8EF-3A4C-4B2C-9A21-619AC71C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3943-786A-47CA-BB4D-838FD65C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148-7C55-472F-BFD4-02CA2FD7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9076-BB57-4EC7-AEE6-C0CC8CC5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6028-9628-49C7-9B03-E819A7B7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AC43-FF9B-455F-8517-80EB59C07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AutoShape 17"/>
          <p:cNvCxnSpPr>
            <a:stCxn id="50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7" name="AutoShape 18"/>
          <p:cNvCxnSpPr>
            <a:stCxn id="58" idx="2"/>
            <a:endCxn id="59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0" name="Text Box 19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0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AutoShape 21"/>
          <p:cNvCxnSpPr>
            <a:stCxn id="61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AutoShape 22"/>
          <p:cNvCxnSpPr>
            <a:stCxn id="61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AutoShape 23"/>
          <p:cNvCxnSpPr>
            <a:stCxn id="61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Text Box 24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7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28"/>
          <p:cNvCxnSpPr>
            <a:stCxn id="70" idx="3"/>
            <a:endCxn id="68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1" name="AutoShape 29"/>
          <p:cNvCxnSpPr>
            <a:stCxn id="72" idx="3"/>
            <a:endCxn id="67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8" name="AutoShape 30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31"/>
          <p:cNvCxnSpPr>
            <a:stCxn id="50" idx="0"/>
            <a:endCxn id="58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4" name="AutoShape 32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33"/>
          <p:cNvCxnSpPr>
            <a:endCxn id="76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7" name="AutoShape 34"/>
          <p:cNvCxnSpPr>
            <a:stCxn id="50" idx="3"/>
          </p:cNvCxnSpPr>
          <p:nvPr/>
        </p:nvCxnSpPr>
        <p:spPr>
          <a:xfrm>
            <a:off x="2630520" y="5524560"/>
            <a:ext cx="67680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8" name="AutoShape 35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36"/>
          <p:cNvCxnSpPr>
            <a:stCxn id="58" idx="3"/>
            <a:endCxn id="78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0" name="AutoShape 37"/>
          <p:cNvCxnSpPr>
            <a:stCxn id="78" idx="3"/>
            <a:endCxn id="81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2" name="AutoShape 38"/>
          <p:cNvCxnSpPr>
            <a:stCxn id="51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AutoShape 39"/>
          <p:cNvCxnSpPr>
            <a:stCxn id="59" idx="6"/>
            <a:endCxn id="51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4" name="AutoShape 40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1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2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3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4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5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6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7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48"/>
          <p:cNvCxnSpPr>
            <a:stCxn id="85" idx="0"/>
            <a:endCxn id="53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2" name="AutoShape 49"/>
          <p:cNvCxnSpPr>
            <a:stCxn id="41" idx="3"/>
            <a:endCxn id="85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AutoShape 50"/>
          <p:cNvCxnSpPr>
            <a:stCxn id="67" idx="2"/>
            <a:endCxn id="41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AutoShape 51"/>
          <p:cNvCxnSpPr>
            <a:stCxn id="67" idx="0"/>
            <a:endCxn id="90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AutoShape 52"/>
          <p:cNvCxnSpPr>
            <a:stCxn id="67" idx="3"/>
            <a:endCxn id="84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AutoShape 53"/>
          <p:cNvCxnSpPr>
            <a:stCxn id="41" idx="0"/>
            <a:endCxn id="84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AutoShape 54"/>
          <p:cNvCxnSpPr>
            <a:stCxn id="90" idx="2"/>
            <a:endCxn id="84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AutoShape 55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AutoShape 56"/>
          <p:cNvCxnSpPr>
            <a:stCxn id="44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AutoShape 57"/>
          <p:cNvCxnSpPr>
            <a:stCxn id="68" idx="2"/>
            <a:endCxn id="89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1" name="AutoShape 58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9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0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1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AutoShape 62"/>
          <p:cNvCxnSpPr>
            <a:stCxn id="89" idx="0"/>
            <a:endCxn id="102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4" name="AutoShape 63"/>
          <p:cNvCxnSpPr>
            <a:stCxn id="44" idx="2"/>
            <a:endCxn id="102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AutoShape 64"/>
          <p:cNvCxnSpPr>
            <a:stCxn id="68" idx="3"/>
            <a:endCxn id="102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6" name="AutoShape 65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AutoShape 66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8" name="AutoShape 67"/>
          <p:cNvCxnSpPr>
            <a:stCxn id="106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AutoShape 68"/>
          <p:cNvCxnSpPr>
            <a:stCxn id="68" idx="0"/>
            <a:endCxn id="44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AutoShape 69"/>
          <p:cNvCxnSpPr>
            <a:stCxn id="102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AutoShape 70"/>
          <p:cNvCxnSpPr>
            <a:endCxn id="88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AutoShape 71"/>
          <p:cNvCxnSpPr>
            <a:stCxn id="89" idx="3"/>
            <a:endCxn id="106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AutoShape 72"/>
          <p:cNvCxnSpPr>
            <a:stCxn id="90" idx="3"/>
            <a:endCxn id="101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AutoShape 73"/>
          <p:cNvCxnSpPr>
            <a:stCxn id="84" idx="6"/>
            <a:endCxn id="86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AutoShape 74"/>
          <p:cNvCxnSpPr>
            <a:stCxn id="85" idx="2"/>
            <a:endCxn id="54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Text Box 75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6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7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8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9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0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1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2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3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4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5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6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7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8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9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0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1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92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4" name="AutoShape 93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5" name="AutoShape 94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5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6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7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8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9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0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1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02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3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4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5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6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7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8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09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0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11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2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13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14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15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6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7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AutoShape 118"/>
          <p:cNvCxnSpPr>
            <a:endCxn id="74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nketprak</cp:lastModifiedBy>
  <dcterms:modified xsi:type="dcterms:W3CDTF">2009-07-16T16:51:51Z</dcterms:modified>
  <cp:revision>12</cp:revision>
  <dc:subject/>
  <dc:title>Slide 1</dc:title>
</cp:coreProperties>
</file>