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DD7-952C-4AB2-9F4F-485FFEC9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EAE-72C8-43FD-A68E-31C7130B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AC4-9D9E-45BE-B442-761A462B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7D4-7DA4-42A9-BBA4-69EF4DC0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17A-1D6F-426C-9087-B5A27C2C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F5B-A79F-40A8-A8E7-5B292798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9DF-D3E0-4652-B5A7-B8E4C2F7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FF0-1F26-4A61-B72C-EDBAE4DD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61A-BFEE-4B60-B242-60D50BE1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7B6-A051-458E-9406-E307190A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377-7988-4DFD-B564-A3C94D05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73B-F0B6-46B9-B1FB-2F88C49B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4CCB-9608-42A9-86B9-28099D5D5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10-06T14:27:55Z</dcterms:modified>
  <cp:revision>20</cp:revision>
  <dc:subject/>
  <dc:title>Slide 1</dc:title>
</cp:coreProperties>
</file>