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A68-A093-4BE8-BE11-9890D0D8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7F8-06D5-4B19-BE0D-42BAF44E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82F-3B11-45FD-A993-EA747D15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B69-0585-41DD-AC4B-6FE31A10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A1A-BD36-480D-A70F-08984EA5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5BE-3860-40F4-B1A6-9B1B8668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C1A-437D-4E04-B2CE-4B0C0895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13E-FEC5-4F13-B389-CB20C2B4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91A-9514-42AE-B11B-C0800F7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EEC-769D-4394-83A3-DB7B51D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268-7B21-4745-B1FA-39CF0180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1D3-1B3D-4060-A61D-CFB70EA4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4483-20AF-4953-8FE2-E40C531E3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080" y="5819760"/>
            <a:ext cx="1443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960" y="5548320"/>
            <a:ext cx="6480" cy="262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10-06T14:25:07Z</dcterms:modified>
  <cp:revision>41</cp:revision>
  <dc:subject/>
  <dc:title>Slide 1</dc:title>
</cp:coreProperties>
</file>