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2AE-8D7E-488D-85A0-38CE4DA0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A04-25DC-4801-A48A-A9D26780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5C4-759B-4831-8707-9A2808B4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624-03FD-451A-9CB0-2422E217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522-CBFD-42A3-815F-19517E55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C91-09FF-48B0-B743-60492095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C09-B6C9-4226-9B7C-DB41840A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6FF-AC33-44B7-88ED-B15D8586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6CA-6CFD-4852-A3B1-41F444B1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936-A1A5-4597-9048-C7DC11FA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5D0-EC2B-4619-BBBC-7A79D547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F75-4BC1-4A18-AD60-3C234AE0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02BF-8F7D-4158-BEEB-848F0D67B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080" y="5819760"/>
            <a:ext cx="14436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960" y="5548320"/>
            <a:ext cx="6480" cy="2620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10-06T14:25:07Z</dcterms:modified>
  <cp:revision>41</cp:revision>
  <dc:subject/>
  <dc:title>Slide 1</dc:title>
</cp:coreProperties>
</file>