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0AE-D54D-4BF4-A18F-C43EC070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342-C612-424C-94CE-ADC9098D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E0F-6C65-4DE4-8373-6D5EE894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821-AAF4-4AC9-B2F8-96BED734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2DA-0F30-470E-BA98-E8129CE5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0A5-2535-40F4-A2EE-661CB602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AE8-96DE-4596-8D53-DBDB0D3E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211-4B8E-456F-A996-62D48E95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3D8-9E77-4B2E-88C9-0A0D44EA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129-A000-4CCD-91E3-0B29FAFE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53C-5843-4AB9-825C-BF586F97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FC6-E25F-4BD4-A0AC-F691723E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C471-2DB3-4E34-BB5A-E79C63513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AutoShape 6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AutoShape 7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AutoShape 8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11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AutoShape 12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AutoShape 13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16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AutoShape 17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20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AutoShape 21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AutoShape 23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24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AutoShape 25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AutoShape 26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AutoShape 27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AutoShape 28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Text Box 29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1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8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0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2784600" y="512460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58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Line 59"/>
          <p:cNvSpPr/>
          <p:nvPr/>
        </p:nvSpPr>
        <p:spPr>
          <a:xfrm flipH="1" flipV="1">
            <a:off x="2793600" y="55479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ketprak</cp:lastModifiedBy>
  <dcterms:modified xsi:type="dcterms:W3CDTF">2009-07-16T16:55:20Z</dcterms:modified>
  <cp:revision>36</cp:revision>
  <dc:subject/>
  <dc:title>Slide 1</dc:title>
</cp:coreProperties>
</file>