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3B87-6322-429C-BA68-349ADB88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F6E6-2638-43D7-8062-BEC2B9E8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31CF-5D3D-4265-A51B-DCD29E7A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891-E3FA-4341-B81D-5E068ECE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DBD-A521-4CB2-8C51-0BE59061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362-D34A-4689-9684-48B84DB6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BAFE-0E61-43C5-8431-F6F09C58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6B9-4713-48DF-8F37-58D609F2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66D-851A-4B4B-A540-B5AE3ACC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080-4E22-4CAC-8E29-AF753463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F85-5D47-4DFC-9D09-54296DEC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F633-2411-43E0-B350-8850FFDF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980D-7E1F-46A8-B9D5-1D4E727E0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AutoShape 6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AutoShape 7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AutoShape 8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AutoShape 11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AutoShape 12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AutoShape 13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AutoShape 16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AutoShape 17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AutoShape 20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AutoShape 21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AutoShape 22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AutoShape 23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AutoShape 24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AutoShape 25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AutoShape 26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AutoShape 27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AutoShape 28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Text Box 29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9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1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3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4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7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8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0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1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2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3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4"/>
          <p:cNvSpPr/>
          <p:nvPr/>
        </p:nvSpPr>
        <p:spPr>
          <a:xfrm>
            <a:off x="2784600" y="512460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6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58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Line 59"/>
          <p:cNvSpPr/>
          <p:nvPr/>
        </p:nvSpPr>
        <p:spPr>
          <a:xfrm flipH="1" flipV="1">
            <a:off x="2793600" y="554796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nketprak</cp:lastModifiedBy>
  <dcterms:modified xsi:type="dcterms:W3CDTF">2009-07-16T16:55:20Z</dcterms:modified>
  <cp:revision>36</cp:revision>
  <dc:subject/>
  <dc:title>Slide 1</dc:title>
</cp:coreProperties>
</file>