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A4E2-0045-468D-B0C9-925A660D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2D94-17E3-4353-BC58-57436673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E890-3C7E-4E7B-B184-C94C24DC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972E-DAC6-4C6E-998B-51BCF22E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2D90-3D30-43DC-BB9B-9431E2D4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5E4-B5FA-4D11-B65D-62E4E862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FE8C-654C-42E6-98C9-ADD9E7FC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EB4F-E75D-4341-B97D-44412040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154F-3316-4DAE-98AD-E0986FBF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BB9E-F15C-4968-BA7D-CD142555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6B94-78B1-4524-850B-E732F982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3D8D-D7FD-473F-BA21-75E3882F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110B-0A95-491F-91CF-14EC1E69C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AutoShape 6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AutoShape 7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AutoShape 8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AutoShape 11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AutoShape 12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AutoShape 13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AutoShape 16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AutoShape 17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AutoShape 20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AutoShape 21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AutoShape 22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AutoShape 23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AutoShape 24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AutoShape 25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AutoShape 26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AutoShape 27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AutoShape 28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Text Box 29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2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3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7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8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9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1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3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4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5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7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8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0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1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2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3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4"/>
          <p:cNvSpPr/>
          <p:nvPr/>
        </p:nvSpPr>
        <p:spPr>
          <a:xfrm>
            <a:off x="2784600" y="512460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5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6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7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AutoShape 58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Line 59"/>
          <p:cNvSpPr/>
          <p:nvPr/>
        </p:nvSpPr>
        <p:spPr>
          <a:xfrm flipH="1" flipV="1">
            <a:off x="2793600" y="554796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nketprak</cp:lastModifiedBy>
  <dcterms:modified xsi:type="dcterms:W3CDTF">2009-07-16T16:55:20Z</dcterms:modified>
  <cp:revision>36</cp:revision>
  <dc:subject/>
  <dc:title>Slide 1</dc:title>
</cp:coreProperties>
</file>