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983-6BC8-4E1A-B671-58C3065D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823-A4C2-4DE9-BBB8-4F2A183F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336-34F3-48D4-9DCB-587CCCC0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008-97CF-45D9-9928-FFB10218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7FC-1968-4BB0-9927-A2D1D73F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5A4-4D64-45BB-815F-06E445BF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9F8-A0C0-47A5-8AA6-182FECF9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998-B9B0-4690-89B3-65CC8187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155-1262-458C-9BE5-19E90CA4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5CA-CE15-455C-9509-2AD0117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B0C-5D91-4873-A6A0-275259F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974-CBD2-46C9-A498-0BCC815B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5D2A-E302-4D2B-A356-6F25FAD70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10-06T14:27:55Z</dcterms:modified>
  <cp:revision>20</cp:revision>
  <dc:subject/>
  <dc:title>Slide 1</dc:title>
</cp:coreProperties>
</file>