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B32-5173-4B94-BF7D-395A2093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2A2-5A68-49B1-9EA6-8BC69ABB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84D-5EA9-434C-BD6E-FB1E0EDF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AD8-52BF-4555-88FB-73864B9C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BC2-40B7-495A-8637-125128F2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27D-4C77-48A5-A021-25BC0580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0B3-5C37-40D8-8DAC-1C26E492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4C5-FFDE-459B-87ED-740DCD2C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587-4B98-49EF-82C5-C4287490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080-72F3-4247-AD5C-7F3BCBA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87D-DEDA-4ECC-B192-FA0DB26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017-37FB-4037-BD8A-4FAEFB4F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164B-01B8-44C2-BADE-DD038D56F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AutoShape 6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AutoShape 7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AutoShape 8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11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AutoShape 12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AutoShape 13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AutoShape 17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AutoShape 20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AutoShape 21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AutoShape 22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AutoShape 23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24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AutoShape 25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AutoShape 26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AutoShape 27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AutoShape 28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Text Box 29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1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7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8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0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2784600" y="512460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665080" y="5819760"/>
            <a:ext cx="14436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58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Line 59"/>
          <p:cNvSpPr/>
          <p:nvPr/>
        </p:nvSpPr>
        <p:spPr>
          <a:xfrm flipH="1" flipV="1">
            <a:off x="2793960" y="5548320"/>
            <a:ext cx="6480" cy="2620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nketprak</cp:lastModifiedBy>
  <dcterms:modified xsi:type="dcterms:W3CDTF">2009-10-06T14:25:07Z</dcterms:modified>
  <cp:revision>41</cp:revision>
  <dc:subject/>
  <dc:title>Slide 1</dc:title>
</cp:coreProperties>
</file>