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E8C-D358-4741-976E-DCBFF2A3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AEC-84C3-47F1-9785-C4D0982D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8BD-1912-4D67-BBE8-12FDAE29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398-380B-4910-A52A-9393102A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53E-13B3-49BE-B5C2-A39AF5E5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8C6-04E7-49FC-BEBE-2545B866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055-FD97-484D-8568-57E400BD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865-97C7-49C4-8212-93C9EF8F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34D-B64F-469F-AD69-DB0127B6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A88-B426-484D-B3AA-FF552AFB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E08-4AA8-4D10-88E3-2FA558F4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3AE-5D1F-4397-8C58-2862A734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9F73-1604-4498-B1E0-A67EF5C36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8" name=""/>
          <p:cNvCxnSpPr>
            <a:stCxn id="59" idx="2"/>
            <a:endCxn id="60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1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2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5" name=""/>
          <p:cNvCxnSpPr>
            <a:stCxn id="62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6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69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2" name=""/>
          <p:cNvCxnSpPr>
            <a:stCxn id="73" idx="3"/>
            <a:endCxn id="68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9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1" idx="0"/>
            <a:endCxn id="59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5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77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8" name=""/>
          <p:cNvCxnSpPr>
            <a:stCxn id="51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9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9" idx="3"/>
            <a:endCxn id="79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1" name=""/>
          <p:cNvCxnSpPr>
            <a:stCxn id="79" idx="3"/>
            <a:endCxn id="82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2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4" name=""/>
          <p:cNvCxnSpPr>
            <a:stCxn id="60" idx="6"/>
            <a:endCxn id="52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5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6" idx="0"/>
            <a:endCxn id="54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42" idx="3"/>
            <a:endCxn id="86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8" idx="2"/>
            <a:endCxn id="42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8" idx="0"/>
            <a:endCxn id="91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68" idx="3"/>
            <a:endCxn id="85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42" idx="0"/>
            <a:endCxn id="85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>
            <a:stCxn id="91" idx="2"/>
            <a:endCxn id="85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45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1" name=""/>
          <p:cNvCxnSpPr>
            <a:stCxn id="69" idx="2"/>
            <a:endCxn id="90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2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0" idx="0"/>
            <a:endCxn id="103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45" idx="2"/>
            <a:endCxn id="103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6" name=""/>
          <p:cNvCxnSpPr>
            <a:stCxn id="69" idx="3"/>
            <a:endCxn id="103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7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107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69" idx="0"/>
            <a:endCxn id="45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stCxn id="103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endCxn id="89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7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91" idx="3"/>
            <a:endCxn id="102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6"/>
            <a:endCxn id="87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"/>
          <p:cNvCxnSpPr>
            <a:stCxn id="86" idx="2"/>
            <a:endCxn id="55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136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5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10-08T15:25:49Z</dcterms:modified>
  <cp:revision>6</cp:revision>
  <dc:subject/>
  <dc:title>Slide 1</dc:title>
</cp:coreProperties>
</file>