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F5B-B2C0-4BAE-A9E3-3127F4C2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CE8-E0E5-4F3D-A2A8-FDB1599F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7F1-5044-48CE-A243-0D5A7014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42C-E32D-4C99-B742-906C17F2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182-3F67-4E89-B289-CBF4C13C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D84-B99D-40F1-A638-A7AB1854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5839-06CB-4A9E-8CC7-B97A8F7A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342-FD4A-4D80-8027-B9CC1EE2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BA24-3372-41E9-86BD-ABC98F89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32F-846B-4464-96BA-287DC5A6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371-4870-4C39-83EF-45009F17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628-2512-4E74-B505-3B687233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16C2-191D-4BDC-83F1-B8D7FD627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10-08T15:23:03Z</dcterms:modified>
  <cp:revision>25</cp:revision>
  <dc:subject/>
  <dc:title>Slide 1</dc:title>
</cp:coreProperties>
</file>