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223-FE57-4166-A3EC-5E2FE333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E7E-91AA-4A90-BB99-0FA241F9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EEB-7048-4F8E-B63A-C0D59EAF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1C2-2F56-4B91-89F5-F1BF3EE3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DC1-E7FB-4CCE-B81F-AB871B7F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8D8-FC63-4233-96B4-8761FC80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163-4288-43BB-B1BE-E7653423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28B-991C-4D08-B5A1-7631D58A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34C-E5BC-43F8-A399-6645AE97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3B2-13AF-4F7B-A4B0-4D4C5950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2E7-D664-42DE-BEEA-0C56A5D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43E-7ED1-4EE3-AA30-3DFD0BA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BB56-A219-4D03-958C-DC1160B51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0-08T15:25:49Z</dcterms:modified>
  <cp:revision>6</cp:revision>
  <dc:subject/>
  <dc:title>Slide 1</dc:title>
</cp:coreProperties>
</file>