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15D-F8C1-400B-A01A-6434387E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DF9-AC87-461F-B9F0-2AD15596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48F-7357-417A-A50F-FBAC20EC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A93-7E15-4577-A68D-B5869755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948-BA63-437C-BD9A-120AD1B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02C-E3EE-4713-BD09-A5E7DB44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702-B8F7-4258-A6AE-8339EE28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356-9862-47D9-A974-529FFC5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44A-C6B7-4694-AAFC-0E5C252B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246-C555-4594-AFD1-C78F8FF8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259-6957-426D-BC09-FC4FF7F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5EC-EEE7-4D3A-912A-942B096F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369-065D-4AD7-A9BE-8BC1A83C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1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8" name=""/>
          <p:cNvCxnSpPr>
            <a:stCxn id="59" idx="2"/>
            <a:endCxn id="60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1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2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2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5" name=""/>
          <p:cNvCxnSpPr>
            <a:stCxn id="62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6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69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2" name=""/>
          <p:cNvCxnSpPr>
            <a:stCxn id="73" idx="3"/>
            <a:endCxn id="68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9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51" idx="0"/>
            <a:endCxn id="59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5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endCxn id="77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8" name=""/>
          <p:cNvCxnSpPr>
            <a:stCxn id="51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9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59" idx="3"/>
            <a:endCxn id="79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1" name=""/>
          <p:cNvCxnSpPr>
            <a:stCxn id="79" idx="3"/>
            <a:endCxn id="82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2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4" name=""/>
          <p:cNvCxnSpPr>
            <a:stCxn id="60" idx="6"/>
            <a:endCxn id="52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5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6" idx="0"/>
            <a:endCxn id="54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42" idx="3"/>
            <a:endCxn id="86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8" idx="2"/>
            <a:endCxn id="42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8" idx="0"/>
            <a:endCxn id="91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68" idx="3"/>
            <a:endCxn id="85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42" idx="0"/>
            <a:endCxn id="85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>
            <a:stCxn id="91" idx="2"/>
            <a:endCxn id="85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45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1" name=""/>
          <p:cNvCxnSpPr>
            <a:stCxn id="69" idx="2"/>
            <a:endCxn id="90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2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0" idx="0"/>
            <a:endCxn id="103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45" idx="2"/>
            <a:endCxn id="103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6" name=""/>
          <p:cNvCxnSpPr>
            <a:stCxn id="69" idx="3"/>
            <a:endCxn id="103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7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107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69" idx="0"/>
            <a:endCxn id="45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stCxn id="103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endCxn id="89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7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91" idx="3"/>
            <a:endCxn id="102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6"/>
            <a:endCxn id="87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6" name=""/>
          <p:cNvCxnSpPr>
            <a:stCxn id="86" idx="2"/>
            <a:endCxn id="55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7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sp>
        <p:nvSpPr>
          <p:cNvPr id="136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5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8-10-08T15:25:49Z</dcterms:modified>
  <cp:revision>6</cp:revision>
  <dc:subject/>
  <dc:title>Slide 1</dc:title>
</cp:coreProperties>
</file>