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99E-E2D6-4ED6-AAAE-BA687051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A1D-CE06-44A9-B64B-5BA74577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BEE-55CC-404F-921C-4DA39069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CEA-D959-4212-8808-1F9D47E9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F2E-F858-42FC-80C7-C0A20D2B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06D-508A-4F44-99A6-75425B53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F5C-E1F4-4BE7-86B0-8D2C5981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DE3-6310-41BF-97AA-5752074E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843-CA10-4D54-BB9C-BBCEAF54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AA0-CC49-4648-80C0-8A391A9F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2CD-8AAC-4FB1-844C-96FAFDE2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D84-0538-4B8D-A21C-63AE1D4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625C-5E2F-4A69-A176-2F345304A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10-08T15:23:03Z</dcterms:modified>
  <cp:revision>25</cp:revision>
  <dc:subject/>
  <dc:title>Slide 1</dc:title>
</cp:coreProperties>
</file>