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1BE-83A0-4AD7-8A76-39725E00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CE9-96F5-47D9-8289-22225024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B9D-3BD3-489E-9859-1E7A2281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8D8-73A9-438F-B56B-97F75CE7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4B2-F038-4183-A83D-47CDE7E1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2CB-41BB-4F8E-8FE9-BD75F63C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8F3-95C0-40DE-B962-9E4178E3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4DE-93E4-44B0-BBF8-DF1843F4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13F-6F9B-4D35-9F62-58916154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75B-87CF-4E38-923D-4D2BB6CF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964-0270-4D4A-83EB-C6EC2129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46B-72D6-4EE1-A491-07E6E3DE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5B8B-1AD3-46AD-BEE2-96835A850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10-08T15:23:03Z</dcterms:modified>
  <cp:revision>25</cp:revision>
  <dc:subject/>
  <dc:title>Slide 1</dc:title>
</cp:coreProperties>
</file>