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E85-FEF5-4A51-9FE4-08349CC3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CE2-D7FE-4B76-8639-2DA74A6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73C-911F-4702-ABBB-4511790A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268-2F9D-4F6C-B219-050AF3AA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D06-0764-4428-82E1-21BCB6C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25F-8EFD-4D55-90AC-9516749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310-E292-4242-B29D-ED75260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4F-C082-45A9-9E32-9C3FFBF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72C-F9B4-4D69-A2B5-2E8BE22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ED1-BAAA-440B-B02C-7F3F92C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DF0-5159-4317-AFB1-548795C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430-7C75-4731-8ACC-5614443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0BE-5CE1-4A79-8E14-D89E190C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0:50:50Z</dcterms:created>
  <dc:creator>dlyons</dc:creator>
  <dc:description/>
  <dc:language>en-US</dc:language>
  <cp:lastModifiedBy>dlyons</cp:lastModifiedBy>
  <dcterms:modified xsi:type="dcterms:W3CDTF">2008-09-05T20:54:16Z</dcterms:modified>
  <cp:revision>2</cp:revision>
  <dc:subject/>
  <dc:title>Slide 1</dc:title>
</cp:coreProperties>
</file>