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C7E-17CD-4E70-AEC3-88B4AB50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950-12F1-4B89-984A-D06F4C82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FC0-6AD5-46B9-A5C7-7F563EB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CC8-C3E3-4D20-80E2-30BC1040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5C8-7662-49DF-AEE3-FA66DD3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81F-B121-4BBE-B6EC-731C57B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693-1F66-4903-A462-D6DC1F4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3B1-BF08-4A10-BDB5-9288B83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DBD-44A2-494D-BEA4-7E7D541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B1B-46B7-4887-8D73-264BD5E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2DB-11D2-4657-B4E7-B80E77E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8D2-0B82-43BC-B9AB-86CF323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65F-DBCC-4555-9539-1FE8AAFA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9-10T16:44:08Z</dcterms:modified>
  <cp:revision>24</cp:revision>
  <dc:subject/>
  <dc:title>Slide 1</dc:title>
</cp:coreProperties>
</file>