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9B5-50A7-48D7-B520-3CB72724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6E7-A4E7-437D-A564-E5A3FF39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81D-DC44-4C4E-8E70-A21BE40D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6D6-18CC-4B60-B050-1E49FA3D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621-4CFF-41ED-B38D-C5B56C90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AAD-6630-425E-BC5C-BEFC0B05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EF5-153B-4128-A358-C1C22E5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7A8-D9AC-490B-B994-C2C3F991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56C-4A5C-4316-B80A-7313D0C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B7B-8AE3-45B4-920F-CD945F36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0B0-F4CC-4F5B-A4C4-C6957E1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CF5-C4BB-43AE-8193-661D307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7CE1-6124-4DDB-A215-B0773C80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09-10T18:28:09Z</dcterms:modified>
  <cp:revision>3</cp:revision>
  <dc:subject/>
  <dc:title>Slide 1</dc:title>
</cp:coreProperties>
</file>