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5970-9F0A-4C54-A85C-B91E0D3E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2860-97FF-420E-B32D-E6C6086A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84ED-9A60-4BB2-962F-9931F37AF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C866-35F1-4AC8-B96C-4EA5659E3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25BC-6686-4409-A853-66310C96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195A-B963-4383-B696-75FD6456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4EC9-4AF0-4DAC-9925-7648CF00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F273-DD9C-430F-A100-772E96DF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A7D4-9710-487F-94E6-85BFB8FB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1EA2-C9B7-46AC-87CF-2A009382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7ECE-F1C6-47DF-8FC7-100C272F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E8FB-EADF-41F9-BD94-3F96A64C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B92E-FEE4-4FE2-96E1-928A0518C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V="1">
            <a:off x="2781360" y="5555880"/>
            <a:ext cx="0" cy="27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81360" y="5133960"/>
            <a:ext cx="0" cy="4334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20:52:34Z</dcterms:created>
  <dc:creator>dlyons</dc:creator>
  <dc:description/>
  <dc:language>en-US</dc:language>
  <cp:lastModifiedBy>dlyons</cp:lastModifiedBy>
  <dcterms:modified xsi:type="dcterms:W3CDTF">2008-09-05T20:54:21Z</dcterms:modified>
  <cp:revision>2</cp:revision>
  <dc:subject/>
  <dc:title>Slide 1</dc:title>
</cp:coreProperties>
</file>