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96A7-34B7-441F-B21F-E940A2FED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ACBB-3ABE-448A-8CBB-0893E688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D61B-A766-4CE7-B5A9-EDD8EEF78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8C94-6242-4C2D-8CD6-47EE2941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EC05-1065-4532-9747-8B0B9B85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B261-31A7-4CCD-B451-01D2A238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ECE4-5F5F-4269-9C61-9D13C48A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9059-FA64-4DD2-8575-1E181D11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A22A-AD55-4D9A-80CC-C4585C2E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2F95-D373-44F2-BADD-B8A237B8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E192-7382-4C10-8231-0E4A4717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FD8A-FDCB-4241-86A5-53E927A5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F4A7-B0C1-42E6-9671-CBAB26B49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86040" y="5138640"/>
            <a:ext cx="0" cy="42876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09-10T16:44:08Z</dcterms:modified>
  <cp:revision>24</cp:revision>
  <dc:subject/>
  <dc:title>Slide 1</dc:title>
</cp:coreProperties>
</file>