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39FC-C8F4-464F-921B-64EE56631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2E89-D299-4EBC-9D91-11ADA4A1A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4A73-6FC3-4B45-8BE7-C74E523DF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5854-3031-4376-B65F-9CFDE3FCA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88E0-14EC-4A46-BF67-9668AD562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C3AF-08BA-4767-A59E-C0E92A9B7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444F-D4F6-4FD7-BB0B-8B22D4ABC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7721-6459-4261-BF58-A3E613F64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A051-507D-411E-859D-68D6B3E22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8FBD-17D6-4F03-85BB-8A4ADD6F1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B1D1-B01B-477F-948C-AB090E252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6CE5-39F1-4D72-A027-16706C274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A97BD-89E7-4335-A135-65E642F12A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75160" y="4037040"/>
            <a:ext cx="1066680" cy="73980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30200" y="3198960"/>
            <a:ext cx="831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 WET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02200" y="3673440"/>
            <a:ext cx="106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 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14760" y="1560600"/>
            <a:ext cx="971640" cy="6206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 to 30 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eorologic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17240" y="1373040"/>
            <a:ext cx="292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Lake level projected to rise to High Lake Management B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93760" y="4784760"/>
            <a:ext cx="898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56920" y="525456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143840" y="5783400"/>
            <a:ext cx="71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WET TO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49600" y="5337000"/>
            <a:ext cx="568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571760" y="5068800"/>
            <a:ext cx="1058760" cy="911160"/>
          </a:xfrm>
          <a:prstGeom prst="flowChartDecision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bu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232680" y="5775480"/>
            <a:ext cx="950760" cy="623880"/>
          </a:xfrm>
          <a:prstGeom prst="flowChartDecision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ulti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918560" y="6386400"/>
            <a:ext cx="1042920" cy="3477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45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00 cf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958160" y="3902040"/>
            <a:ext cx="1001520" cy="4143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3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17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956720" y="4363920"/>
            <a:ext cx="996840" cy="303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45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921800" y="1150920"/>
            <a:ext cx="1025280" cy="4716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p to Maximum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ischarge Capac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Tidewa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0" idx="2"/>
          </p:cNvCxnSpPr>
          <p:nvPr/>
        </p:nvCxnSpPr>
        <p:spPr>
          <a:xfrm flipH="1" rot="16200000">
            <a:off x="3202200" y="4879080"/>
            <a:ext cx="573840" cy="2775240"/>
          </a:xfrm>
          <a:prstGeom prst="bentConnector3">
            <a:avLst>
              <a:gd name="adj1" fmla="val 70370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57" name=""/>
          <p:cNvCxnSpPr>
            <a:stCxn id="58" idx="2"/>
            <a:endCxn id="59" idx="0"/>
          </p:cNvCxnSpPr>
          <p:nvPr/>
        </p:nvCxnSpPr>
        <p:spPr>
          <a:xfrm flipH="1">
            <a:off x="3299040" y="5286240"/>
            <a:ext cx="3240" cy="232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60" name=""/>
          <p:cNvSpPr/>
          <p:nvPr/>
        </p:nvSpPr>
        <p:spPr>
          <a:xfrm>
            <a:off x="0" y="0"/>
            <a:ext cx="9144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8 L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 D: Establish Allowable Lake Okeechobee Releases to Tide (Estua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2840" y="2738520"/>
            <a:ext cx="1158840" cy="6904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ake Okeechob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"/>
          <p:cNvCxnSpPr>
            <a:stCxn id="61" idx="0"/>
          </p:cNvCxnSpPr>
          <p:nvPr/>
        </p:nvCxnSpPr>
        <p:spPr>
          <a:xfrm flipV="1">
            <a:off x="622440" y="2509200"/>
            <a:ext cx="285840" cy="229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3" name=""/>
          <p:cNvCxnSpPr>
            <a:stCxn id="61" idx="1"/>
          </p:cNvCxnSpPr>
          <p:nvPr/>
        </p:nvCxnSpPr>
        <p:spPr>
          <a:xfrm flipV="1">
            <a:off x="212400" y="1434600"/>
            <a:ext cx="613800" cy="14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4" name=""/>
          <p:cNvCxnSpPr>
            <a:stCxn id="61" idx="4"/>
          </p:cNvCxnSpPr>
          <p:nvPr/>
        </p:nvCxnSpPr>
        <p:spPr>
          <a:xfrm>
            <a:off x="622440" y="3429000"/>
            <a:ext cx="2275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65" name=""/>
          <p:cNvSpPr/>
          <p:nvPr/>
        </p:nvSpPr>
        <p:spPr>
          <a:xfrm>
            <a:off x="2139480" y="6361200"/>
            <a:ext cx="464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 *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408640" y="57895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OR WET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592280" y="342900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bu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79680" y="1881360"/>
            <a:ext cx="1058760" cy="9507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bu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" name=""/>
          <p:cNvCxnSpPr>
            <a:stCxn id="70" idx="3"/>
            <a:endCxn id="68" idx="1"/>
          </p:cNvCxnSpPr>
          <p:nvPr/>
        </p:nvCxnSpPr>
        <p:spPr>
          <a:xfrm flipV="1">
            <a:off x="1397160" y="2356920"/>
            <a:ext cx="182880" cy="9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71" name=""/>
          <p:cNvCxnSpPr>
            <a:stCxn id="72" idx="3"/>
            <a:endCxn id="67" idx="1"/>
          </p:cNvCxnSpPr>
          <p:nvPr/>
        </p:nvCxnSpPr>
        <p:spPr>
          <a:xfrm>
            <a:off x="1397160" y="3880440"/>
            <a:ext cx="195480" cy="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58" name=""/>
          <p:cNvSpPr/>
          <p:nvPr/>
        </p:nvSpPr>
        <p:spPr>
          <a:xfrm>
            <a:off x="2876400" y="4643280"/>
            <a:ext cx="851040" cy="6429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ake St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thin 1.0 ft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50" idx="0"/>
            <a:endCxn id="58" idx="1"/>
          </p:cNvCxnSpPr>
          <p:nvPr/>
        </p:nvCxnSpPr>
        <p:spPr>
          <a:xfrm flipH="1" flipV="1" rot="5400000">
            <a:off x="2436480" y="4629240"/>
            <a:ext cx="104400" cy="775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74" name=""/>
          <p:cNvSpPr/>
          <p:nvPr/>
        </p:nvSpPr>
        <p:spPr>
          <a:xfrm>
            <a:off x="4343400" y="5791320"/>
            <a:ext cx="1066680" cy="6188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log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" name=""/>
          <p:cNvCxnSpPr>
            <a:endCxn id="76" idx="0"/>
          </p:cNvCxnSpPr>
          <p:nvPr/>
        </p:nvCxnSpPr>
        <p:spPr>
          <a:xfrm flipH="1" rot="16200000">
            <a:off x="6396480" y="3818520"/>
            <a:ext cx="579960" cy="3515400"/>
          </a:xfrm>
          <a:prstGeom prst="bentConnector3">
            <a:avLst>
              <a:gd name="adj1" fmla="val 30000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77" name=""/>
          <p:cNvCxnSpPr>
            <a:stCxn id="50" idx="3"/>
          </p:cNvCxnSpPr>
          <p:nvPr/>
        </p:nvCxnSpPr>
        <p:spPr>
          <a:xfrm>
            <a:off x="2630520" y="5524560"/>
            <a:ext cx="676800" cy="720"/>
          </a:xfrm>
          <a:prstGeom prst="bentConnector3">
            <a:avLst>
              <a:gd name="adj1" fmla="val 67323"/>
            </a:avLst>
          </a:prstGeom>
          <a:ln w="9360">
            <a:solidFill>
              <a:srgbClr val="00ccff"/>
            </a:solidFill>
            <a:miter/>
            <a:tailEnd len="lg" type="triangle" w="med"/>
          </a:ln>
        </p:spPr>
      </p:cxnSp>
      <p:sp>
        <p:nvSpPr>
          <p:cNvPr id="78" name=""/>
          <p:cNvSpPr/>
          <p:nvPr/>
        </p:nvSpPr>
        <p:spPr>
          <a:xfrm>
            <a:off x="4419720" y="4645080"/>
            <a:ext cx="990360" cy="6429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log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58" idx="3"/>
            <a:endCxn id="78" idx="1"/>
          </p:cNvCxnSpPr>
          <p:nvPr/>
        </p:nvCxnSpPr>
        <p:spPr>
          <a:xfrm>
            <a:off x="3727440" y="4964760"/>
            <a:ext cx="6926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80" name=""/>
          <p:cNvCxnSpPr>
            <a:stCxn id="78" idx="3"/>
            <a:endCxn id="81" idx="1"/>
          </p:cNvCxnSpPr>
          <p:nvPr/>
        </p:nvCxnSpPr>
        <p:spPr>
          <a:xfrm flipV="1">
            <a:off x="5410080" y="4961880"/>
            <a:ext cx="2530800" cy="5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82" name=""/>
          <p:cNvCxnSpPr>
            <a:stCxn id="51" idx="2"/>
          </p:cNvCxnSpPr>
          <p:nvPr/>
        </p:nvCxnSpPr>
        <p:spPr>
          <a:xfrm>
            <a:off x="6708240" y="6399360"/>
            <a:ext cx="1080" cy="152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83" name=""/>
          <p:cNvCxnSpPr>
            <a:stCxn id="59" idx="6"/>
            <a:endCxn id="51" idx="0"/>
          </p:cNvCxnSpPr>
          <p:nvPr/>
        </p:nvCxnSpPr>
        <p:spPr>
          <a:xfrm>
            <a:off x="3303720" y="5523120"/>
            <a:ext cx="3404880" cy="252720"/>
          </a:xfrm>
          <a:prstGeom prst="bentConnector2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</p:cxnSp>
      <p:sp>
        <p:nvSpPr>
          <p:cNvPr id="84" name=""/>
          <p:cNvSpPr/>
          <p:nvPr/>
        </p:nvSpPr>
        <p:spPr>
          <a:xfrm>
            <a:off x="4108320" y="3878280"/>
            <a:ext cx="9720" cy="9360"/>
          </a:xfrm>
          <a:prstGeom prst="flowChartConnector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0" bIns="-39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294000" y="5518080"/>
            <a:ext cx="9720" cy="9720"/>
          </a:xfrm>
          <a:prstGeom prst="flowChartConnector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960" bIns="-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234120" y="4108320"/>
            <a:ext cx="950760" cy="6112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ulti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940520" y="3413160"/>
            <a:ext cx="1006560" cy="3697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7 Up to 4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8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21800" y="2317680"/>
            <a:ext cx="1019160" cy="4017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3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17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924680" y="1752480"/>
            <a:ext cx="1013040" cy="465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7 Up to 65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8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14760" y="2500200"/>
            <a:ext cx="971640" cy="6746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 to 30 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eorologic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629160" y="3027240"/>
            <a:ext cx="971280" cy="6746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 to 30 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eorologic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1" name=""/>
          <p:cNvCxnSpPr>
            <a:stCxn id="85" idx="0"/>
            <a:endCxn id="53" idx="1"/>
          </p:cNvCxnSpPr>
          <p:nvPr/>
        </p:nvCxnSpPr>
        <p:spPr>
          <a:xfrm>
            <a:off x="6709680" y="4108320"/>
            <a:ext cx="1248840" cy="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2" name=""/>
          <p:cNvCxnSpPr>
            <a:stCxn id="41" idx="3"/>
            <a:endCxn id="85" idx="1"/>
          </p:cNvCxnSpPr>
          <p:nvPr/>
        </p:nvCxnSpPr>
        <p:spPr>
          <a:xfrm>
            <a:off x="4641840" y="4407120"/>
            <a:ext cx="159264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3" name=""/>
          <p:cNvCxnSpPr>
            <a:stCxn id="67" idx="2"/>
            <a:endCxn id="41" idx="1"/>
          </p:cNvCxnSpPr>
          <p:nvPr/>
        </p:nvCxnSpPr>
        <p:spPr>
          <a:xfrm flipH="1" rot="16200000">
            <a:off x="2814840" y="3646800"/>
            <a:ext cx="67320" cy="1453680"/>
          </a:xfrm>
          <a:prstGeom prst="bentConnector4">
            <a:avLst>
              <a:gd name="adj1" fmla="val 348387"/>
              <a:gd name="adj2" fmla="val 68169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4" name=""/>
          <p:cNvCxnSpPr>
            <a:stCxn id="67" idx="0"/>
            <a:endCxn id="90" idx="1"/>
          </p:cNvCxnSpPr>
          <p:nvPr/>
        </p:nvCxnSpPr>
        <p:spPr>
          <a:xfrm flipH="1" flipV="1" rot="5400000">
            <a:off x="2842920" y="2643120"/>
            <a:ext cx="64800" cy="1507680"/>
          </a:xfrm>
          <a:prstGeom prst="bentConnector4">
            <a:avLst>
              <a:gd name="adj1" fmla="val 362569"/>
              <a:gd name="adj2" fmla="val 67518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5" name=""/>
          <p:cNvCxnSpPr>
            <a:stCxn id="67" idx="3"/>
            <a:endCxn id="84" idx="2"/>
          </p:cNvCxnSpPr>
          <p:nvPr/>
        </p:nvCxnSpPr>
        <p:spPr>
          <a:xfrm flipV="1">
            <a:off x="2651040" y="3882960"/>
            <a:ext cx="14576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6" name=""/>
          <p:cNvCxnSpPr>
            <a:stCxn id="41" idx="0"/>
            <a:endCxn id="84" idx="4"/>
          </p:cNvCxnSpPr>
          <p:nvPr/>
        </p:nvCxnSpPr>
        <p:spPr>
          <a:xfrm flipV="1">
            <a:off x="4108680" y="3887640"/>
            <a:ext cx="5040" cy="149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7" name=""/>
          <p:cNvCxnSpPr>
            <a:stCxn id="90" idx="2"/>
            <a:endCxn id="84" idx="0"/>
          </p:cNvCxnSpPr>
          <p:nvPr/>
        </p:nvCxnSpPr>
        <p:spPr>
          <a:xfrm flipH="1">
            <a:off x="4113360" y="3701880"/>
            <a:ext cx="1800" cy="17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8" name=""/>
          <p:cNvCxnSpPr/>
          <p:nvPr/>
        </p:nvCxnSpPr>
        <p:spPr>
          <a:xfrm>
            <a:off x="4995720" y="1392120"/>
            <a:ext cx="2921760" cy="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9" name=""/>
          <p:cNvCxnSpPr>
            <a:stCxn id="44" idx="0"/>
          </p:cNvCxnSpPr>
          <p:nvPr/>
        </p:nvCxnSpPr>
        <p:spPr>
          <a:xfrm flipH="1" flipV="1">
            <a:off x="4995360" y="1386720"/>
            <a:ext cx="5760" cy="1742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00" name=""/>
          <p:cNvCxnSpPr>
            <a:stCxn id="68" idx="2"/>
            <a:endCxn id="89" idx="1"/>
          </p:cNvCxnSpPr>
          <p:nvPr/>
        </p:nvCxnSpPr>
        <p:spPr>
          <a:xfrm>
            <a:off x="2109240" y="2832120"/>
            <a:ext cx="2405880" cy="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01" name=""/>
          <p:cNvSpPr/>
          <p:nvPr/>
        </p:nvSpPr>
        <p:spPr>
          <a:xfrm>
            <a:off x="7927920" y="2824200"/>
            <a:ext cx="1019160" cy="465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7 Up to 65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8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940520" y="4753080"/>
            <a:ext cx="1028880" cy="4172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7 Up to 4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8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927920" y="5865840"/>
            <a:ext cx="1031760" cy="439560"/>
          </a:xfrm>
          <a:prstGeom prst="flowChartProcess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3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17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994280" y="2349360"/>
            <a:ext cx="9360" cy="9720"/>
          </a:xfrm>
          <a:prstGeom prst="flowChartConnector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960" bIns="-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"/>
          <p:cNvCxnSpPr>
            <a:stCxn id="89" idx="0"/>
            <a:endCxn id="102" idx="4"/>
          </p:cNvCxnSpPr>
          <p:nvPr/>
        </p:nvCxnSpPr>
        <p:spPr>
          <a:xfrm flipH="1" flipV="1">
            <a:off x="4998960" y="2359080"/>
            <a:ext cx="2160" cy="141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04" name=""/>
          <p:cNvCxnSpPr>
            <a:stCxn id="44" idx="2"/>
            <a:endCxn id="102" idx="0"/>
          </p:cNvCxnSpPr>
          <p:nvPr/>
        </p:nvCxnSpPr>
        <p:spPr>
          <a:xfrm flipH="1">
            <a:off x="4998960" y="2181240"/>
            <a:ext cx="2160" cy="168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05" name=""/>
          <p:cNvCxnSpPr>
            <a:stCxn id="68" idx="3"/>
            <a:endCxn id="102" idx="2"/>
          </p:cNvCxnSpPr>
          <p:nvPr/>
        </p:nvCxnSpPr>
        <p:spPr>
          <a:xfrm flipV="1">
            <a:off x="2638440" y="2354400"/>
            <a:ext cx="2356200" cy="2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06" name=""/>
          <p:cNvSpPr/>
          <p:nvPr/>
        </p:nvSpPr>
        <p:spPr>
          <a:xfrm>
            <a:off x="6172200" y="2185920"/>
            <a:ext cx="984240" cy="6429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log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" name=""/>
          <p:cNvCxnSpPr/>
          <p:nvPr/>
        </p:nvCxnSpPr>
        <p:spPr>
          <a:xfrm flipV="1">
            <a:off x="6664320" y="1980720"/>
            <a:ext cx="2160" cy="202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08" name=""/>
          <p:cNvCxnSpPr>
            <a:stCxn id="106" idx="3"/>
          </p:cNvCxnSpPr>
          <p:nvPr/>
        </p:nvCxnSpPr>
        <p:spPr>
          <a:xfrm>
            <a:off x="7156440" y="2507400"/>
            <a:ext cx="768960" cy="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09" name=""/>
          <p:cNvCxnSpPr>
            <a:stCxn id="68" idx="0"/>
            <a:endCxn id="44" idx="1"/>
          </p:cNvCxnSpPr>
          <p:nvPr/>
        </p:nvCxnSpPr>
        <p:spPr>
          <a:xfrm flipV="1">
            <a:off x="2109240" y="1870920"/>
            <a:ext cx="2405880" cy="1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0" name=""/>
          <p:cNvCxnSpPr>
            <a:stCxn id="102" idx="6"/>
          </p:cNvCxnSpPr>
          <p:nvPr/>
        </p:nvCxnSpPr>
        <p:spPr>
          <a:xfrm flipV="1">
            <a:off x="5003640" y="1980360"/>
            <a:ext cx="1661040" cy="374400"/>
          </a:xfrm>
          <a:prstGeom prst="bentConnector3">
            <a:avLst>
              <a:gd name="adj1" fmla="val 56947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1" name=""/>
          <p:cNvCxnSpPr>
            <a:endCxn id="88" idx="1"/>
          </p:cNvCxnSpPr>
          <p:nvPr/>
        </p:nvCxnSpPr>
        <p:spPr>
          <a:xfrm>
            <a:off x="6659640" y="1981080"/>
            <a:ext cx="1265400" cy="4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2" name=""/>
          <p:cNvCxnSpPr>
            <a:stCxn id="89" idx="3"/>
            <a:endCxn id="106" idx="1"/>
          </p:cNvCxnSpPr>
          <p:nvPr/>
        </p:nvCxnSpPr>
        <p:spPr>
          <a:xfrm flipV="1">
            <a:off x="5486400" y="2507400"/>
            <a:ext cx="686160" cy="330480"/>
          </a:xfrm>
          <a:prstGeom prst="bentConnector3">
            <a:avLst>
              <a:gd name="adj1" fmla="val 49973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3" name=""/>
          <p:cNvCxnSpPr>
            <a:stCxn id="90" idx="3"/>
            <a:endCxn id="101" idx="1"/>
          </p:cNvCxnSpPr>
          <p:nvPr/>
        </p:nvCxnSpPr>
        <p:spPr>
          <a:xfrm flipV="1">
            <a:off x="4600440" y="3056760"/>
            <a:ext cx="3327840" cy="308160"/>
          </a:xfrm>
          <a:prstGeom prst="bentConnector3">
            <a:avLst>
              <a:gd name="adj1" fmla="val 50059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4" name=""/>
          <p:cNvCxnSpPr>
            <a:stCxn id="84" idx="6"/>
            <a:endCxn id="86" idx="1"/>
          </p:cNvCxnSpPr>
          <p:nvPr/>
        </p:nvCxnSpPr>
        <p:spPr>
          <a:xfrm flipV="1">
            <a:off x="4118040" y="3598200"/>
            <a:ext cx="3822840" cy="285120"/>
          </a:xfrm>
          <a:prstGeom prst="bentConnector3">
            <a:avLst>
              <a:gd name="adj1" fmla="val 49981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5" name=""/>
          <p:cNvCxnSpPr>
            <a:stCxn id="85" idx="2"/>
            <a:endCxn id="54" idx="1"/>
          </p:cNvCxnSpPr>
          <p:nvPr/>
        </p:nvCxnSpPr>
        <p:spPr>
          <a:xfrm flipH="1" flipV="1" rot="5400000">
            <a:off x="7231320" y="3994200"/>
            <a:ext cx="204120" cy="1247400"/>
          </a:xfrm>
          <a:prstGeom prst="bentConnector4">
            <a:avLst>
              <a:gd name="adj1" fmla="val -114310"/>
              <a:gd name="adj2" fmla="val 69226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16" name=""/>
          <p:cNvSpPr/>
          <p:nvPr/>
        </p:nvSpPr>
        <p:spPr>
          <a:xfrm>
            <a:off x="3695040" y="479412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76960" y="4784760"/>
            <a:ext cx="71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105520" y="5105520"/>
            <a:ext cx="79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THER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193480" y="4229280"/>
            <a:ext cx="424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665080" y="3692520"/>
            <a:ext cx="1104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 WET</a:t>
            </a: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484880" y="3193920"/>
            <a:ext cx="1777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Lake level projected to rise to Hig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095720" y="3886200"/>
            <a:ext cx="172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EITHER FORECAST INDICA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0" y="4238640"/>
            <a:ext cx="153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BOTH FORECAS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INDICATE  DRY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592320" y="3890880"/>
            <a:ext cx="1351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883200" y="464508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163600" y="1709640"/>
            <a:ext cx="744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660760" y="2174760"/>
            <a:ext cx="107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 WET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306520" y="265284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023440" y="2336760"/>
            <a:ext cx="81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680880" y="1968480"/>
            <a:ext cx="114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WET TO 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45000" y="266400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075080" y="2473200"/>
            <a:ext cx="64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O  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3" name=""/>
          <p:cNvCxnSpPr/>
          <p:nvPr/>
        </p:nvCxnSpPr>
        <p:spPr>
          <a:xfrm>
            <a:off x="4876920" y="6552720"/>
            <a:ext cx="18295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34" name=""/>
          <p:cNvCxnSpPr/>
          <p:nvPr/>
        </p:nvCxnSpPr>
        <p:spPr>
          <a:xfrm>
            <a:off x="6706800" y="6554520"/>
            <a:ext cx="12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35" name=""/>
          <p:cNvSpPr/>
          <p:nvPr/>
        </p:nvSpPr>
        <p:spPr>
          <a:xfrm>
            <a:off x="190440" y="639720"/>
            <a:ext cx="2395440" cy="474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te:  This operational guidance provides essential supplementary information to be used in </a:t>
            </a:r>
            <a:r>
              <a:rPr b="0" lang="en-US" sz="700" spc="-1" strike="noStrike" u="sng">
                <a:solidFill>
                  <a:srgbClr val="000000"/>
                </a:solidFill>
                <a:uFillTx/>
                <a:latin typeface="Arial"/>
              </a:rPr>
              <a:t>conjunction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with other supporting documentation including text within the Water Control Plan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965840" y="2149560"/>
            <a:ext cx="106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 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38080" y="1295280"/>
            <a:ext cx="228600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igh Lake Management Ban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71400" y="2235240"/>
            <a:ext cx="72576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14360" y="3749760"/>
            <a:ext cx="98280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20640" y="5362560"/>
            <a:ext cx="725400" cy="261360"/>
          </a:xfrm>
          <a:prstGeom prst="rect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ow 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42360" y="6629400"/>
            <a:ext cx="4742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* Very Dry Conditions may require that releases to tide (estuaries) be discontinu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90440" y="3327480"/>
            <a:ext cx="611280" cy="202716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349280" y="5524560"/>
            <a:ext cx="214560" cy="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5407200" y="6092640"/>
            <a:ext cx="828360" cy="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7175520" y="6079680"/>
            <a:ext cx="752400" cy="324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644200" y="5881680"/>
            <a:ext cx="61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614400" y="4133880"/>
            <a:ext cx="930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 &amp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eorologica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024520" y="6357960"/>
            <a:ext cx="79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THER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726600" y="6353280"/>
            <a:ext cx="1098000" cy="3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THER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(NORMAL TO DRY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0440" y="3333600"/>
            <a:ext cx="244440" cy="30988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62000" y="6438960"/>
            <a:ext cx="99864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ase Flow 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1152360" y="6216120"/>
            <a:ext cx="165240" cy="21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rot="5400000">
            <a:off x="-175320" y="5853960"/>
            <a:ext cx="838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igure 7-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619600" y="679320"/>
            <a:ext cx="2578320" cy="52416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Apply Meteorological Forecasts on 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Weekly Basis; apply Seasonal and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Multi-Seasonal Climate/Hydrologic Outlooks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on a Monthly Basis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743200" y="673200"/>
            <a:ext cx="2886120" cy="53316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When conducting Base Flow releases,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flows can be distributed East and Wes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up to 650 cfs as neede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to minimize impacts or provide benefits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through S-80 and S-79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51040" y="5872320"/>
            <a:ext cx="1025280" cy="3380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45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76920" y="640872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127320" y="139068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>
            <a:endCxn id="74" idx="1"/>
          </p:cNvCxnSpPr>
          <p:nvPr/>
        </p:nvCxnSpPr>
        <p:spPr>
          <a:xfrm>
            <a:off x="2625480" y="5524200"/>
            <a:ext cx="1718280" cy="577080"/>
          </a:xfrm>
          <a:prstGeom prst="bentConnector3">
            <a:avLst>
              <a:gd name="adj1" fmla="val 43126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0T16:39:42Z</dcterms:created>
  <dc:creator>dlyons</dc:creator>
  <dc:description/>
  <dc:language>en-US</dc:language>
  <cp:lastModifiedBy>dlyons</cp:lastModifiedBy>
  <dcterms:modified xsi:type="dcterms:W3CDTF">2008-09-25T13:56:08Z</dcterms:modified>
  <cp:revision>4</cp:revision>
  <dc:subject/>
  <dc:title>Slide 1</dc:title>
</cp:coreProperties>
</file>