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794-B180-4C6B-BB5A-E722372C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93D-F8B0-41CF-A4D6-407EC860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68B-2F30-430C-AE1D-66BD8BD7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7EF-D506-416D-B1FC-F7000E99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F9A-EF88-4301-A752-63F55CA1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513-2231-4F2B-954A-14133302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AC7-0060-4088-AA40-89446858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3BE-B5B4-4C5D-AA77-9D89E432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57F-6FC9-43EC-B9FA-E7A85F8D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A7B-401F-4D1A-B099-7D08881C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2D0-584D-4F70-810B-5FE20C9B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327-09A0-4305-B876-FE9C281D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0FB3-F173-44E0-B703-06FA02B38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9-10T16:44:08Z</dcterms:modified>
  <cp:revision>24</cp:revision>
  <dc:subject/>
  <dc:title>Slide 1</dc:title>
</cp:coreProperties>
</file>