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E9D-D87D-412A-83EC-8CC8DD04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D96-8A1B-4081-9E91-503BE9C9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BD2-98FE-482A-B21A-B22DEF9A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BEC-8D46-45D0-A1C6-0A7DDC00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5CA-8F4E-4C21-9230-C57A6C46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66B-CC6C-4E2E-AF90-FECADB59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CBC-8584-409E-82E5-0B79E46C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C24-536B-4FAC-BDE8-2F663E37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019-A7CE-4EC0-BC60-88C4023B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018-FE77-4860-8A39-FA9CC4D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C5D-AA95-41B6-A7B2-BDB34487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1D6-917C-42DA-A7AE-A2C048B4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4326-93B7-46DB-9C88-D4BF3255D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09-10T18:28:09Z</dcterms:modified>
  <cp:revision>3</cp:revision>
  <dc:subject/>
  <dc:title>Slide 1</dc:title>
</cp:coreProperties>
</file>