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67E-5351-46C4-B1F2-FFCB743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13D-DAF3-424D-9338-678B96E8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D92-63F1-41FA-B93F-923A1050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1FB-731D-4F5C-90FB-D7FD106A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FD0-D3F0-46FD-B44D-436AE08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4C3-DCBC-4639-B179-CBD0A18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8B7-9E9C-4E4D-BEE4-039ED65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964-AD27-4574-9337-A0FD10C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1FA-A59B-4CFE-90F8-21CB4C9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F40-4EE7-41E3-B27F-CB7CAF6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13C-6371-4B8D-85E6-A6744A0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D74-318C-4DDC-8C9C-F49EBEB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9E2-9444-4C60-AFDE-B5176685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8-09-30T15:07:24Z</dcterms:modified>
  <cp:revision>5</cp:revision>
  <dc:subject/>
  <dc:title>Slide 1</dc:title>
</cp:coreProperties>
</file>