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3FE-7688-406B-80DA-9B1CE28B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FD6-5982-44B9-B745-06056FBE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103-1980-424D-B641-F4EB3DCE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ECF-51DB-4850-84BC-653297A1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1F5-EFE9-4E14-96C6-4060C4A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64E-3177-47D4-AAFC-656B528D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B6B-4E75-41DE-A422-E29D9BBB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8DE-ED32-43EB-91FD-5AB87518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BAF-973A-4E2E-A266-D38A5DC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82D-D4EC-4E4B-BAA3-B19A1D4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079-A7A9-4ECA-98BB-72FDFED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C61-8AE3-45EF-9E97-D98CA9D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6E20-1CA2-4FE7-AF39-6FFF70169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9-10T16:44:08Z</dcterms:modified>
  <cp:revision>24</cp:revision>
  <dc:subject/>
  <dc:title>Slide 1</dc:title>
</cp:coreProperties>
</file>