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F4BF-9460-440B-ABF5-3AF3126BA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re from District wading bird surveys of the WCAs and the Tamiami trail colonies in northern E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s include only white wading birds (Wood Stork, White Ibis, Great Egret, Snowy Egr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recent improvement in hydrologic conditions, nesting effort remains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537C-4811-4D7C-8E0E-EA3693DE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F402-2BAC-4788-9CDB-6BAC936E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307-343C-4E9D-AB0E-B6FA2B15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4DF4-E200-4427-B2CF-D57D1B0A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B161-D238-4DB5-BCAA-A9D0113C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641-991B-4353-861C-E3C2EA2D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13D-AD1A-467F-8BE4-69C68CD0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85F-B0A6-4C04-B917-5A3F4405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B6F-39FD-4501-92C9-A2E5043A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0F80-5FEB-43BF-B2D4-BEC389C5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C9E1-8876-48FB-AF42-25AB859D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C5D-25B2-440F-858A-879C76E7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B156-7B18-4AD6-AEC8-AF5B8B9FD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28600" y="1997640"/>
            <a:ext cx="8138160" cy="3938040"/>
            <a:chOff x="228600" y="1997640"/>
            <a:chExt cx="8138160" cy="3938040"/>
          </a:xfrm>
        </p:grpSpPr>
        <p:sp>
          <p:nvSpPr>
            <p:cNvPr id="49" name=""/>
            <p:cNvSpPr/>
            <p:nvPr/>
          </p:nvSpPr>
          <p:spPr>
            <a:xfrm>
              <a:off x="1518120" y="2104200"/>
              <a:ext cx="6756120" cy="34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51240" y="5517000"/>
              <a:ext cx="6779160" cy="180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245760" y="5517000"/>
              <a:ext cx="2160" cy="489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940640" y="5517000"/>
              <a:ext cx="2160" cy="489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6635520" y="5517000"/>
              <a:ext cx="2160" cy="489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27880" y="5661000"/>
              <a:ext cx="67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M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93320" y="5661000"/>
              <a:ext cx="52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Apr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26000" y="56610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M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1551240" y="2103840"/>
              <a:ext cx="6815520" cy="324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200000">
              <a:off x="-650520" y="3471480"/>
              <a:ext cx="2033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Wading Bird Ne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1551240" y="2107800"/>
              <a:ext cx="1440" cy="340920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95080" y="5517000"/>
              <a:ext cx="55800" cy="1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95080" y="4664520"/>
              <a:ext cx="55800" cy="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95080" y="3811320"/>
              <a:ext cx="55800" cy="18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95080" y="2958840"/>
              <a:ext cx="55800" cy="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95080" y="2107800"/>
              <a:ext cx="55800" cy="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67200" y="5409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5520" y="455616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5520" y="3703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20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5520" y="28504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30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5520" y="19976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40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8274600" y="2103840"/>
              <a:ext cx="1440" cy="340956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245760" y="2145960"/>
              <a:ext cx="3389400" cy="2404080"/>
            </a:xfrm>
            <a:custGeom>
              <a:avLst/>
              <a:gdLst/>
              <a:ahLst/>
              <a:rect l="l" t="t" r="r" b="b"/>
              <a:pathLst>
                <a:path w="3052" h="2467">
                  <a:moveTo>
                    <a:pt x="0" y="0"/>
                  </a:moveTo>
                  <a:lnTo>
                    <a:pt x="1526" y="2467"/>
                  </a:lnTo>
                  <a:lnTo>
                    <a:pt x="3052" y="2213"/>
                  </a:lnTo>
                </a:path>
              </a:pathLst>
            </a:custGeom>
            <a:noFill/>
            <a:ln w="22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245760" y="5445720"/>
              <a:ext cx="2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88240" y="5407200"/>
              <a:ext cx="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332880" y="53665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3375360" y="53254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17840" y="5287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461760" y="5246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06040" y="5207400"/>
              <a:ext cx="2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548520" y="5167080"/>
              <a:ext cx="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593160" y="5126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35280" y="50871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679560" y="5046840"/>
              <a:ext cx="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22040" y="5007960"/>
              <a:ext cx="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3766680" y="4966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810960" y="4926240"/>
              <a:ext cx="2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53080" y="4887720"/>
              <a:ext cx="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897720" y="48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940200" y="4806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84480" y="4767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028400" y="4726800"/>
              <a:ext cx="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70880" y="4688280"/>
              <a:ext cx="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115520" y="46476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4158000" y="46069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202280" y="4568040"/>
              <a:ext cx="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4246560" y="4527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89040" y="44881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333320" y="4447080"/>
              <a:ext cx="2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375800" y="4407480"/>
              <a:ext cx="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20440" y="43682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462560" y="43272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06840" y="42886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49320" y="4248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593960" y="42069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36440" y="41688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680360" y="4128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724640" y="4087080"/>
              <a:ext cx="2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67120" y="4048560"/>
              <a:ext cx="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811760" y="4007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53880" y="3969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898160" y="3928320"/>
              <a:ext cx="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942800" y="38926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987080" y="3920040"/>
              <a:ext cx="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33160" y="39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79600" y="3974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23880" y="4001040"/>
              <a:ext cx="2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70320" y="4028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16400" y="40550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60680" y="4083840"/>
              <a:ext cx="2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07120" y="4111200"/>
              <a:ext cx="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51760" y="41378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97480" y="4165200"/>
              <a:ext cx="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3920" y="4192560"/>
              <a:ext cx="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488560" y="42188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534280" y="4246560"/>
              <a:ext cx="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578920" y="42732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25360" y="4300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71800" y="43275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15720" y="43549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62160" y="43815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5808600" y="4410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852880" y="4437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5898960" y="4464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943240" y="4491360"/>
              <a:ext cx="2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89680" y="4519080"/>
              <a:ext cx="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35760" y="4545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80040" y="4573080"/>
              <a:ext cx="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26480" y="4600080"/>
              <a:ext cx="2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172920" y="46285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216840" y="4655880"/>
              <a:ext cx="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263280" y="4682520"/>
              <a:ext cx="2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307920" y="4710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54360" y="473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00080" y="4764240"/>
              <a:ext cx="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44720" y="47916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91160" y="48182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35440" y="4847040"/>
              <a:ext cx="2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81520" y="4874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27960" y="49010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84200" y="4540680"/>
              <a:ext cx="100080" cy="8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98160" y="2109240"/>
              <a:ext cx="100440" cy="8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95200" y="2358000"/>
              <a:ext cx="100080" cy="88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03280" y="5410800"/>
              <a:ext cx="100080" cy="87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98160" y="3854160"/>
              <a:ext cx="100440" cy="87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08880" y="4865760"/>
              <a:ext cx="105480" cy="91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943520" y="3890880"/>
            <a:ext cx="1757160" cy="105588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276720" y="3890880"/>
            <a:ext cx="1666800" cy="154296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84560" y="5322960"/>
            <a:ext cx="100080" cy="87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5410080"/>
            <a:ext cx="100080" cy="87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5334120"/>
            <a:ext cx="1758960" cy="810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97160" y="2266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97160" y="4703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85280" y="5105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560" y="304920"/>
            <a:ext cx="80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ading bird nesting has dramatically declined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029200" y="5333760"/>
            <a:ext cx="1676520" cy="759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5257800"/>
            <a:ext cx="100080" cy="87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4:29:30Z</dcterms:created>
  <dc:creator>mcook</dc:creator>
  <dc:description/>
  <dc:language>en-US</dc:language>
  <cp:lastModifiedBy>Mark ian Cook</cp:lastModifiedBy>
  <dcterms:modified xsi:type="dcterms:W3CDTF">2008-05-05T20:31:41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67277514</vt:r8>
  </property>
  <property fmtid="{D5CDD505-2E9C-101B-9397-08002B2CF9AE}" pid="3" name="_AuthorEmail">
    <vt:lpwstr>fsklar@sfwmd.gov</vt:lpwstr>
  </property>
  <property fmtid="{D5CDD505-2E9C-101B-9397-08002B2CF9AE}" pid="4" name="_AuthorEmailDisplayName">
    <vt:lpwstr>Sklar, Fred</vt:lpwstr>
  </property>
  <property fmtid="{D5CDD505-2E9C-101B-9397-08002B2CF9AE}" pid="5" name="_EmailSubject">
    <vt:lpwstr>Everglades Conditions Update April 29, 2008</vt:lpwstr>
  </property>
  <property fmtid="{D5CDD505-2E9C-101B-9397-08002B2CF9AE}" pid="6" name="_NewReviewCycle">
    <vt:lpwstr/>
  </property>
  <property fmtid="{D5CDD505-2E9C-101B-9397-08002B2CF9AE}" pid="7" name="_PreviousAdHocReviewCycleID">
    <vt:r8>-1713492231</vt:r8>
  </property>
</Properties>
</file>