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2A0-84A2-41EB-BFD6-7882AE25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FD0-9423-4A5D-9460-683822E0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A4F-B984-4245-ACCA-4FBA4768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C4A-1E1B-456E-B1E4-AEE4F262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C7B5-0969-435B-82E9-238581BB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AA15-4FD3-4CE6-8A28-52CA8756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9C00-AAE5-49A3-9CE7-68AD10FD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4CBE-1DCC-43EE-8F56-01AF3EB8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60A6-B28E-4DC8-B834-92D204C7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88EE-5909-445D-B973-70D4B6EA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119D-378E-4EFB-9544-0687ADFA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E94-338D-416F-8EA4-3281C567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69F5-8F4F-43FD-B023-01D0976E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A8D4-A70D-45FE-8C16-31E07F20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FD60-F230-4AC6-98A3-CB016EFC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A719-B444-4A5E-B9A8-5CA439C5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4E2F-F40D-4E73-BE8C-0B35FE2E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B42-5BF9-4219-8612-68DDFAEA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353-317B-4F5D-9B97-EA761516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45B-C141-41CF-867B-2F912068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53E-EABE-4918-9099-CEB09456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5CC-2296-465B-872D-E9245C36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CB9-F009-4481-B516-09BF60C3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70A-7BFD-4883-A2F8-F641AD35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0819-DB6F-4CBC-8398-848B3A7EB0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0380-4306-4D7E-8F42-B28B33DF73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92080" y="279360"/>
            <a:ext cx="736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Water Quality – Total Phospho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49280" y="914400"/>
          <a:ext cx="824544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914400"/>
                    <a:ext cx="82454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95200" y="228600"/>
            <a:ext cx="85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Water Quality – Total Suspended Sol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49280" y="914400"/>
          <a:ext cx="824544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914400"/>
                    <a:ext cx="82454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92080" y="279360"/>
            <a:ext cx="736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Water Quality – Total Phospho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49280" y="914400"/>
          <a:ext cx="824544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914400"/>
                    <a:ext cx="82454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95200" y="228600"/>
            <a:ext cx="85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Water Quality – Total Suspended Sol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49280" y="914400"/>
          <a:ext cx="824544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914400"/>
                    <a:ext cx="82454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5:44:17Z</dcterms:created>
  <dc:creator>teast</dc:creator>
  <dc:description/>
  <dc:language>en-US</dc:language>
  <cp:lastModifiedBy>teast</cp:lastModifiedBy>
  <dcterms:modified xsi:type="dcterms:W3CDTF">2009-04-14T12:44:29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9773335</vt:r8>
  </property>
  <property fmtid="{D5CDD505-2E9C-101B-9397-08002B2CF9AE}" pid="3" name="_AuthorEmail">
    <vt:lpwstr>teast@sfwmd.gov</vt:lpwstr>
  </property>
  <property fmtid="{D5CDD505-2E9C-101B-9397-08002B2CF9AE}" pid="4" name="_AuthorEmailDisplayName">
    <vt:lpwstr>East, Therese</vt:lpwstr>
  </property>
  <property fmtid="{D5CDD505-2E9C-101B-9397-08002B2CF9AE}" pid="5" name="_EmailSubject">
    <vt:lpwstr>Draft</vt:lpwstr>
  </property>
  <property fmtid="{D5CDD505-2E9C-101B-9397-08002B2CF9AE}" pid="6" name="_NewReviewCycle">
    <vt:lpwstr/>
  </property>
</Properties>
</file>