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633-AF47-4A99-89A1-B62B33F2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40B-B0C0-4AF0-B702-5083B4E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C8C-0B53-4866-8CA5-C9A29666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EC1-47FA-446D-9293-5C5FD0B2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9B0-C5DD-4471-8AC7-F4A25CE4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70B-33AF-4E28-9A6D-2D69DD1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FF2E-97AE-4E07-9766-D916958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0805-3F79-4BAB-BC98-831A6BF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B42-8485-4D27-8ABC-10A5E24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C2E-CB38-44A4-A38E-9FCF8A4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3CA3-5995-4C61-B2A4-AFBED35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B85-C44C-448D-9937-4E6E28E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79E-9D1C-4D35-9AD7-36A07F3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7635-0AE1-48CD-A583-D6B25A4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6E6E-0DE2-4179-B8D6-0B581232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9356-0AA4-4CD7-9C45-5600FE4A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152-590B-4511-B973-20F1FC27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87C-E28E-49A1-924B-9A78E469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604-2350-4484-969C-D3EEB38D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7EF-036B-4F32-B283-F2494690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B26-D5AD-4BFF-84C4-8A9C564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F65-CB2A-424F-89AE-73AE138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A9B-C5ED-4B9B-A721-388014D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764-1969-4E1C-A6E0-A55D91A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F1F5-8340-4CEA-A4B5-7A3974EDD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7CB7-E452-47D5-9FA4-6AC3BF3E7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51936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74280" y="304920"/>
            <a:ext cx="247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North, F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and W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66840" y="272880"/>
            <a:ext cx="66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AV- Predicted Dry-out 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0760" y="914400"/>
          <a:ext cx="8501040" cy="58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14400"/>
                    <a:ext cx="850104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5:44:17Z</dcterms:created>
  <dc:creator>teast</dc:creator>
  <dc:description/>
  <dc:language>en-US</dc:language>
  <cp:lastModifiedBy>teast</cp:lastModifiedBy>
  <dcterms:modified xsi:type="dcterms:W3CDTF">2009-04-14T15:27:59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9668839</vt:r8>
  </property>
  <property fmtid="{D5CDD505-2E9C-101B-9397-08002B2CF9AE}" pid="3" name="_AuthorEmail">
    <vt:lpwstr>teast@sfwmd.gov</vt:lpwstr>
  </property>
  <property fmtid="{D5CDD505-2E9C-101B-9397-08002B2CF9AE}" pid="4" name="_AuthorEmailDisplayName">
    <vt:lpwstr>East, Therese</vt:lpwstr>
  </property>
  <property fmtid="{D5CDD505-2E9C-101B-9397-08002B2CF9AE}" pid="5" name="_EmailSubject">
    <vt:lpwstr>Draft</vt:lpwstr>
  </property>
  <property fmtid="{D5CDD505-2E9C-101B-9397-08002B2CF9AE}" pid="6" name="_NewReviewCycle">
    <vt:lpwstr/>
  </property>
</Properties>
</file>