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0156-5B1C-46B0-8CE6-F7E75F2F2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77E7-0E33-49EB-8C5C-80BF79EF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161C-619D-43FB-BF33-4C33B3A4C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AF62-28F1-4DBC-9FDB-AEBE61874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EC43-830C-41EF-AD09-38ABF5B5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F143-A251-44B7-979B-0A76ACDE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6BDF-32C0-4845-968F-906C7081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A7AB-A60D-43D4-A957-9EA3D0CF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F34C-8ACE-412E-B69A-B383CFA6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470D-EA44-4332-9E85-DC9E57A2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B793-3856-4831-8339-A9BCB690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3703-AC33-4E69-A8EA-FA6D52F6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FFCC-3DBB-47CF-80BC-5D924ECA1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H="1" flipV="1">
            <a:off x="2784600" y="5555880"/>
            <a:ext cx="288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86040" y="51386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Norapatt "Don" Ketprakong</cp:lastModifiedBy>
  <dcterms:modified xsi:type="dcterms:W3CDTF">2009-03-10T14:56:40Z</dcterms:modified>
  <cp:revision>32</cp:revision>
  <dc:subject/>
  <dc:title>Slide 1</dc:title>
</cp:coreProperties>
</file>