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9C1-F02E-4268-A94C-B5198462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7BA-14BC-4029-9789-A86135C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116-AFDD-4F44-847E-9190A8EE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336-0C43-4D7F-8C1E-05B6DA17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694E-8BCF-4F2B-AAC5-248AF03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8B1B-8FE6-4B25-93E4-A81DBFF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165F-1919-4913-AEB6-ACCD5DA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F7A-DAC8-4694-B625-C619A80A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0316-4CFA-4DBB-8275-54BC3C2F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1A89-36B7-42A7-8FF0-1185F95C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7D5-84BE-4BE4-9141-F2B7AE0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2BE-3993-423C-8296-6FCB7A4C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D4B-D4DC-4A83-9DA3-675C4E8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9CA5-94CB-4575-95F5-880EB0F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5030-F288-42E0-87A9-D804128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A74-B664-4E77-A1D7-40AB4B6D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18E9-096C-4024-A209-AF114A68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B1F-C501-4BAE-9355-6F7DFF80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DBB-9B3F-4991-A2CF-A315A87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7C7-F6A5-4651-8847-27AC6A7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703-EDA1-4EDF-B1BC-E9EBEE2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544-60EB-4785-AEA3-B36B471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A27-F729-4C9A-99D0-BADBEB5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34C-659C-4FA6-B2F8-1103848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4BDA-E69B-4A35-BD75-AE111011E2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7A93-E4EB-4979-8316-EBD9906ED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51936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74280" y="304920"/>
            <a:ext cx="247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North, F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and W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66840" y="272880"/>
            <a:ext cx="66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SAV- Predicted Dry-out 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0760" y="914400"/>
          <a:ext cx="8501040" cy="58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14400"/>
                    <a:ext cx="850104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5:44:17Z</dcterms:created>
  <dc:creator>teast</dc:creator>
  <dc:description/>
  <dc:language>en-US</dc:language>
  <cp:lastModifiedBy>teast</cp:lastModifiedBy>
  <dcterms:modified xsi:type="dcterms:W3CDTF">2009-04-14T15:27:59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9668839</vt:r8>
  </property>
  <property fmtid="{D5CDD505-2E9C-101B-9397-08002B2CF9AE}" pid="3" name="_AuthorEmail">
    <vt:lpwstr>teast@sfwmd.gov</vt:lpwstr>
  </property>
  <property fmtid="{D5CDD505-2E9C-101B-9397-08002B2CF9AE}" pid="4" name="_AuthorEmailDisplayName">
    <vt:lpwstr>East, Therese</vt:lpwstr>
  </property>
  <property fmtid="{D5CDD505-2E9C-101B-9397-08002B2CF9AE}" pid="5" name="_EmailSubject">
    <vt:lpwstr>Draft</vt:lpwstr>
  </property>
  <property fmtid="{D5CDD505-2E9C-101B-9397-08002B2CF9AE}" pid="6" name="_NewReviewCycle">
    <vt:lpwstr/>
  </property>
</Properties>
</file>