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D1A-E19E-462A-BDA8-455379C2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7D5-561D-4502-9D9B-E58F6826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73A-E5B7-41A0-BA49-058774EA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74E-8FFF-4DDA-9691-66F28FA5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0B6-B439-4D73-8704-9B19318E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9CC-826A-4AD8-AC6E-35974829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F5B-73BF-4A4A-BACA-52135408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40D-D2FE-48EA-8041-B382431B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05C-8466-4539-851B-F4D8720A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AAC-623E-410D-A747-79D5C8C9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56B-301E-4C1B-8011-CF9BA8D7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055-9A86-4B8A-B853-4E22A746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8B6F-9832-4107-94B7-7DD761649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H="1" flipV="1">
            <a:off x="2784600" y="555588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orapatt "Don" Ketprakong</cp:lastModifiedBy>
  <dcterms:modified xsi:type="dcterms:W3CDTF">2009-03-10T14:56:40Z</dcterms:modified>
  <cp:revision>32</cp:revision>
  <dc:subject/>
  <dc:title>Slide 1</dc:title>
</cp:coreProperties>
</file>