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116-7704-4162-A5F5-D356FB90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635-23D2-4277-95E5-4C9F5D38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2C1-62E3-4225-AD71-7F198539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259-4918-4BA5-9607-61229A15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1A7-5A9B-4866-ACD0-72ACC3A8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2B4-124C-47BD-BFCF-CE4E1A22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FBF-4972-4701-94B8-5938F24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CAC-4E74-4D4F-9B19-000EBDA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C79-A0DE-479B-AAB2-A569B8D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80A-517D-4784-9109-878FCB7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69-844A-4A12-8A51-945113F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88C-2902-4590-A7B0-E6FA090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934C-6E14-4ADA-B4B2-B797E05E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orapatt "Don" Ketprakong</cp:lastModifiedBy>
  <dcterms:modified xsi:type="dcterms:W3CDTF">2009-03-10T14:58:07Z</dcterms:modified>
  <cp:revision>10</cp:revision>
  <dc:subject/>
  <dc:title>Slide 1</dc:title>
</cp:coreProperties>
</file>