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4FD-5ACD-47B1-8080-138662B2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D43-9B33-48DD-9424-A8F41840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BA6-500B-49DD-AA4D-52549678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F61-9D07-49ED-9161-F5B3D51C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A8C-FDAC-4E7A-838B-3C71ACCE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516-3417-4DF7-9EB5-695FEA6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DD2-5C6A-4A06-B3F5-9692A53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004-DDDE-45EA-AD38-A9231E9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966-A600-427C-B922-1843E192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2D1-F337-471D-A498-ADD4671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2BE-9A35-4B66-927F-993C018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B7A-C9D0-4515-9C56-10756E4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F644-8010-438E-819B-6C698C711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9-03-10T14:58:07Z</dcterms:modified>
  <cp:revision>10</cp:revision>
  <dc:subject/>
  <dc:title>Slide 1</dc:title>
</cp:coreProperties>
</file>