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E2E-CEAB-420D-B9F5-48627189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779-9A98-4CA2-BC80-677BE2E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D8D-836C-41E7-AA6D-0FFDBE0E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57D-D03D-48A9-B99F-4639B467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474-6628-41CA-B1C1-328285D6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51B-62BC-4E43-A6EB-BFE2E6CE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1FA-0F9A-40BB-9DC9-FD95F70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0B9-CAB0-4EA8-BFF0-BB968550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197-4E60-42BD-AFD4-31E6569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47F-4004-4FCC-AE5A-6F5CD31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526-36AC-43C4-8A75-3BD532F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C5E-3A1A-4072-8863-2913BC9F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934-67F6-4398-A40E-33A7829A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orapatt "Don" Ketprakong</cp:lastModifiedBy>
  <dcterms:modified xsi:type="dcterms:W3CDTF">2009-03-10T14:56:40Z</dcterms:modified>
  <cp:revision>32</cp:revision>
  <dc:subject/>
  <dc:title>Slide 1</dc:title>
</cp:coreProperties>
</file>