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0CA-4417-4A54-8EFB-539CDAA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482-DA88-44C7-8012-D10CF1E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B84-EC58-4097-BDA6-E2497B62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DB4-B7C4-401E-A25E-3223705C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13E-4344-41C0-ABCA-A5D3F5B3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9F0-FF28-4EC4-8916-472C5099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1EF-13BE-4F77-AFBE-5DFBEF1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703-4925-4B53-9F09-78794DD6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A21-1CD1-4F58-B439-5FA7FBE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72C-83CC-4CC7-816C-1D5532B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841-C6D1-40DD-B408-C3485F0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CCF-D25B-4C4F-BE07-253C610F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AC5-FD6D-410F-BF5A-2CCAEEDA0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orapatt "Don" Ketprakong</cp:lastModifiedBy>
  <dcterms:modified xsi:type="dcterms:W3CDTF">2009-03-10T14:56:40Z</dcterms:modified>
  <cp:revision>32</cp:revision>
  <dc:subject/>
  <dc:title>Slide 1</dc:title>
</cp:coreProperties>
</file>