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532-F5D4-465C-9628-D45F7F16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8CB-3617-4B87-BB76-290D5826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517-C206-4DD3-8C0E-1EF36733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AE4-3F47-4A4C-8B6F-0772D753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FC9E-F29D-446E-8F8C-639A1DF4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4C3A-4685-442F-9BB2-94BD73E6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E0ED-84A6-49F9-A0B1-6F4FEAAE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95DE-992D-4AA1-A6D8-AA5493D6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FA25-93BF-48B7-8AD0-D2F0A325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FDCF-95A2-481F-97C8-3BDB56E3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8221-4088-439F-8C93-B92821CF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D4D-A3A1-49F7-9F78-201FCFD6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EB8A-7DF7-447C-88CA-DCB20468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836A-6845-404E-B7E8-0C2E8D9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3620-DB9B-408F-8D06-2532BF00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65C2-7B8A-44AA-8162-67C2A099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2B06-E309-4264-B9AE-53B0E61D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D5C-72E8-4863-A0A7-EBBD104A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4F5-40D7-401C-B4B5-81526B5D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E52-D49E-4566-92EB-6046FB95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F8F-7099-4F89-BFDD-7B4FB392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C82-C739-4510-9C08-D6D15BA2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D78-5398-4278-A546-416B5D8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21B-8D17-4F67-9AF6-589782E2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4FDD-5348-41CF-9B52-60D6CF21EE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EA6A-751E-4832-9C6B-0FE9417B3F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92080" y="279360"/>
            <a:ext cx="73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Water Quality – Total Phospho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49280" y="914400"/>
          <a:ext cx="824544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914400"/>
                    <a:ext cx="8245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95200" y="228600"/>
            <a:ext cx="85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Water Quality – Total Suspended Sol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49280" y="914400"/>
          <a:ext cx="824544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914400"/>
                    <a:ext cx="8245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2080" y="279360"/>
            <a:ext cx="73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Water Quality – Total Phospho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49280" y="914400"/>
          <a:ext cx="824544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914400"/>
                    <a:ext cx="8245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95200" y="228600"/>
            <a:ext cx="85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Water Quality – Total Suspended Sol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49280" y="914400"/>
          <a:ext cx="824544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914400"/>
                    <a:ext cx="8245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5:44:17Z</dcterms:created>
  <dc:creator>teast</dc:creator>
  <dc:description/>
  <dc:language>en-US</dc:language>
  <cp:lastModifiedBy>teast</cp:lastModifiedBy>
  <dcterms:modified xsi:type="dcterms:W3CDTF">2009-04-14T12:44:29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9773335</vt:r8>
  </property>
  <property fmtid="{D5CDD505-2E9C-101B-9397-08002B2CF9AE}" pid="3" name="_AuthorEmail">
    <vt:lpwstr>teast@sfwmd.gov</vt:lpwstr>
  </property>
  <property fmtid="{D5CDD505-2E9C-101B-9397-08002B2CF9AE}" pid="4" name="_AuthorEmailDisplayName">
    <vt:lpwstr>East, Therese</vt:lpwstr>
  </property>
  <property fmtid="{D5CDD505-2E9C-101B-9397-08002B2CF9AE}" pid="5" name="_EmailSubject">
    <vt:lpwstr>Draft</vt:lpwstr>
  </property>
  <property fmtid="{D5CDD505-2E9C-101B-9397-08002B2CF9AE}" pid="6" name="_NewReviewCycle">
    <vt:lpwstr/>
  </property>
</Properties>
</file>