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E29-DB3B-40A8-99FE-4C0C6362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6F6-F14E-4FBF-81B6-5FF162A3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5E3-1F79-4F1A-8B90-3BDE8CF3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020-ADD8-4F1E-805C-2D47CA3B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F510-02FA-477F-B328-9C3C07B0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52D-D918-4B28-9B82-4A89D84F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958-F5AC-4B1A-8360-EFAE3FBC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A931-20AF-46A6-90D3-D0FB4998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68B-1D58-4EFE-8258-572B0FAA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8C8-D804-4EB3-9EAD-490AC65B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091-FE33-4026-917D-B2C6F638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F7A1-D92A-4DE7-B7EB-2DA102D2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BDA6-F59D-4A2D-805B-480E56AA2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72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56400" y="2832120"/>
            <a:ext cx="2898720" cy="965160"/>
          </a:xfrm>
          <a:custGeom>
            <a:avLst/>
            <a:gdLst/>
            <a:ahLst/>
            <a:rect l="l" t="t" r="r" b="b"/>
            <a:pathLst>
              <a:path w="1826" h="608">
                <a:moveTo>
                  <a:pt x="0" y="606"/>
                </a:moveTo>
                <a:lnTo>
                  <a:pt x="0" y="372"/>
                </a:lnTo>
                <a:lnTo>
                  <a:pt x="136" y="478"/>
                </a:lnTo>
                <a:lnTo>
                  <a:pt x="626" y="166"/>
                </a:lnTo>
                <a:lnTo>
                  <a:pt x="704" y="6"/>
                </a:lnTo>
                <a:lnTo>
                  <a:pt x="986" y="0"/>
                </a:lnTo>
                <a:lnTo>
                  <a:pt x="1130" y="160"/>
                </a:lnTo>
                <a:lnTo>
                  <a:pt x="1338" y="318"/>
                </a:lnTo>
                <a:lnTo>
                  <a:pt x="1618" y="319"/>
                </a:lnTo>
                <a:lnTo>
                  <a:pt x="1826" y="478"/>
                </a:lnTo>
                <a:lnTo>
                  <a:pt x="1820" y="606"/>
                </a:lnTo>
                <a:lnTo>
                  <a:pt x="1130" y="606"/>
                </a:lnTo>
                <a:lnTo>
                  <a:pt x="706" y="476"/>
                </a:lnTo>
                <a:lnTo>
                  <a:pt x="560" y="608"/>
                </a:lnTo>
                <a:lnTo>
                  <a:pt x="0" y="606"/>
                </a:lnTo>
                <a:close/>
              </a:path>
            </a:pathLst>
          </a:custGeom>
          <a:solidFill>
            <a:srgbClr val="cccc00">
              <a:alpha val="2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6:50:17Z</dcterms:created>
  <dc:creator>Cal Neidrauer</dc:creator>
  <dc:description/>
  <dc:language>en-US</dc:language>
  <cp:lastModifiedBy>Cal Neidrauer</cp:lastModifiedBy>
  <cp:lastPrinted>2003-05-06T17:55:13Z</cp:lastPrinted>
  <dcterms:modified xsi:type="dcterms:W3CDTF">2009-01-27T14:05:15Z</dcterms:modified>
  <cp:revision>360</cp:revision>
  <dc:subject/>
  <dc:title>No Slide Title</dc:title>
</cp:coreProperties>
</file>