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04A-B084-40B3-A4E2-2E14BC7B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65E5-F739-4630-A087-F740813E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198-F020-4F8A-8EEB-B9AB2C32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0E0-BAB9-4C5F-9FA4-79B81E8C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CC14-C6D8-4F3F-994E-FA93E028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A07-5246-4F16-A31A-95DE193D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24B4-BB86-4D35-8D1C-4A99312D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602-A548-4290-A62C-1F3CEF04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2F2-DA78-460C-A8F2-8B07C299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5B2-2159-4BA1-A21D-49B0F67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7F44-7638-4514-B508-4F8C9177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75E-D396-4E70-81D6-B3CBB1DB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67FF-9796-494B-A3A6-2D894C8C3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9-01-07T17:25:58Z</dcterms:modified>
  <cp:revision>31</cp:revision>
  <dc:subject/>
  <dc:title>Slide 1</dc:title>
</cp:coreProperties>
</file>