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E872-CB8D-41C4-98FB-495E9EFE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6578-C552-45DD-AE9D-6A4FEADA6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AA15-4042-4D76-A26B-E602DDF65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7A51-1879-4559-84B6-10E1EFF29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B7AA-F0B4-4DAF-A9F2-B3D5F95A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893A-5C40-41A1-9F47-716FAB39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82B5-A564-4A1C-B5B7-A00CC6DA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576C-A8B3-48AA-8FA3-45F04FE9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9191-B27B-41D4-9424-6DEED04E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C27A-B0D7-4E3E-B9A4-4CE06F26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E15E-AACB-4201-B9C6-F06A3C4E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175C-A371-446E-A29C-45B24E8A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2800-C3DF-423D-B12C-C137C0E5DA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ccff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H="1" flipV="1">
            <a:off x="2784600" y="5555880"/>
            <a:ext cx="2880" cy="26676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86040" y="51386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9-01-07T17:25:58Z</dcterms:modified>
  <cp:revision>31</cp:revision>
  <dc:subject/>
  <dc:title>Slide 1</dc:title>
</cp:coreProperties>
</file>