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8F23-E435-47C7-9DF2-7B6FA81D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844-D839-48C7-A4DA-25B19031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56A-4BED-4D4A-9F84-97A4C9E5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0A35-8AD6-4D3B-899D-A84BDFD6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18E0-24EF-4C76-8BDA-FDC8DDCB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AA1B-39E2-4BBD-9700-029367F0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DA0-71FF-4F33-846F-9B9A392D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BF3-242E-46FB-8DA6-78602DBC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BA8-A0CA-43A5-BEC6-251D3BA3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8F4-C01D-4D74-95B5-93BBEC0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DD5-00ED-4721-B4A0-053C15FC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80AF-0A55-4507-915C-84C0B25F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34DF-3AF6-4EC5-A348-ECCC8CCF7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1520" y="5246640"/>
            <a:ext cx="7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0" y="5105520"/>
            <a:ext cx="1058760" cy="91116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3090960"/>
            <a:ext cx="1224000" cy="718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er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6" idx="3"/>
            <a:endCxn id="47" idx="1"/>
          </p:cNvCxnSpPr>
          <p:nvPr/>
        </p:nvCxnSpPr>
        <p:spPr>
          <a:xfrm>
            <a:off x="2172240" y="2833920"/>
            <a:ext cx="3936960" cy="1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48" name=""/>
          <p:cNvCxnSpPr>
            <a:stCxn id="49" idx="3"/>
            <a:endCxn id="50" idx="1"/>
          </p:cNvCxnSpPr>
          <p:nvPr/>
        </p:nvCxnSpPr>
        <p:spPr>
          <a:xfrm>
            <a:off x="2855880" y="4199040"/>
            <a:ext cx="325332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47" name=""/>
          <p:cNvSpPr/>
          <p:nvPr/>
        </p:nvSpPr>
        <p:spPr>
          <a:xfrm>
            <a:off x="6108840" y="2394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813800" y="226368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3800" y="290052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2"/>
            <a:endCxn id="52" idx="1"/>
          </p:cNvCxnSpPr>
          <p:nvPr/>
        </p:nvCxnSpPr>
        <p:spPr>
          <a:xfrm flipH="1" flipV="1" rot="5400000">
            <a:off x="7155720" y="264744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54" name=""/>
          <p:cNvCxnSpPr/>
          <p:nvPr/>
        </p:nvCxnSpPr>
        <p:spPr>
          <a:xfrm flipH="1" rot="16200000">
            <a:off x="7158600" y="18615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5" name=""/>
          <p:cNvSpPr/>
          <p:nvPr/>
        </p:nvSpPr>
        <p:spPr>
          <a:xfrm>
            <a:off x="6108840" y="5108400"/>
            <a:ext cx="1058760" cy="91152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r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R with min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verglad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pac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3800" y="49784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813800" y="561492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/>
          <p:nvPr/>
        </p:nvCxnSpPr>
        <p:spPr>
          <a:xfrm flipH="1" rot="16200000">
            <a:off x="7158600" y="4581000"/>
            <a:ext cx="135720" cy="1175760"/>
          </a:xfrm>
          <a:prstGeom prst="bentConnector4">
            <a:avLst>
              <a:gd name="adj1" fmla="val 7978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50" name=""/>
          <p:cNvSpPr/>
          <p:nvPr/>
        </p:nvSpPr>
        <p:spPr>
          <a:xfrm>
            <a:off x="6108840" y="374652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CAs &lt; ma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 up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+0.25 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13800" y="3616200"/>
            <a:ext cx="866520" cy="52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813800" y="425304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ea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50" idx="2"/>
            <a:endCxn id="60" idx="1"/>
          </p:cNvCxnSpPr>
          <p:nvPr/>
        </p:nvCxnSpPr>
        <p:spPr>
          <a:xfrm flipH="1" flipV="1" rot="5400000">
            <a:off x="7155720" y="3999960"/>
            <a:ext cx="140760" cy="1175760"/>
          </a:xfrm>
          <a:prstGeom prst="bentConnector4">
            <a:avLst>
              <a:gd name="adj1" fmla="val -166153"/>
              <a:gd name="adj2" fmla="val 72618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2" name=""/>
          <p:cNvCxnSpPr/>
          <p:nvPr/>
        </p:nvCxnSpPr>
        <p:spPr>
          <a:xfrm flipH="1" rot="16200000">
            <a:off x="7158600" y="3218760"/>
            <a:ext cx="135720" cy="1175760"/>
          </a:xfrm>
          <a:prstGeom prst="bentConnector4">
            <a:avLst>
              <a:gd name="adj1" fmla="val 5851"/>
              <a:gd name="adj2" fmla="val 7240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3" name=""/>
          <p:cNvCxnSpPr>
            <a:stCxn id="64" idx="3"/>
            <a:endCxn id="65" idx="1"/>
          </p:cNvCxnSpPr>
          <p:nvPr/>
        </p:nvCxnSpPr>
        <p:spPr>
          <a:xfrm flipV="1">
            <a:off x="4412520" y="1785240"/>
            <a:ext cx="340164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65" name=""/>
          <p:cNvSpPr/>
          <p:nvPr/>
        </p:nvSpPr>
        <p:spPr>
          <a:xfrm>
            <a:off x="7813800" y="1521000"/>
            <a:ext cx="866520" cy="52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actic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W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4" idx="7"/>
          </p:cNvCxnSpPr>
          <p:nvPr/>
        </p:nvCxnSpPr>
        <p:spPr>
          <a:xfrm flipV="1">
            <a:off x="1238400" y="2842560"/>
            <a:ext cx="319680" cy="35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7" name=""/>
          <p:cNvCxnSpPr>
            <a:stCxn id="44" idx="0"/>
          </p:cNvCxnSpPr>
          <p:nvPr/>
        </p:nvCxnSpPr>
        <p:spPr>
          <a:xfrm flipV="1">
            <a:off x="805680" y="1874520"/>
            <a:ext cx="720720" cy="121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8" name=""/>
          <p:cNvCxnSpPr>
            <a:stCxn id="44" idx="4"/>
            <a:endCxn id="49" idx="1"/>
          </p:cNvCxnSpPr>
          <p:nvPr/>
        </p:nvCxnSpPr>
        <p:spPr>
          <a:xfrm>
            <a:off x="805680" y="3809880"/>
            <a:ext cx="74196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69" name=""/>
          <p:cNvCxnSpPr>
            <a:stCxn id="42" idx="2"/>
            <a:endCxn id="57" idx="2"/>
          </p:cNvCxnSpPr>
          <p:nvPr/>
        </p:nvCxnSpPr>
        <p:spPr>
          <a:xfrm flipH="1" rot="16200000">
            <a:off x="5810760" y="3706920"/>
            <a:ext cx="127440" cy="4746240"/>
          </a:xfrm>
          <a:prstGeom prst="bentConnector3">
            <a:avLst>
              <a:gd name="adj1" fmla="val 28186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70" name=""/>
          <p:cNvCxnSpPr>
            <a:stCxn id="43" idx="2"/>
          </p:cNvCxnSpPr>
          <p:nvPr/>
        </p:nvCxnSpPr>
        <p:spPr>
          <a:xfrm>
            <a:off x="5101560" y="6016680"/>
            <a:ext cx="288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71" name=""/>
          <p:cNvSpPr/>
          <p:nvPr/>
        </p:nvSpPr>
        <p:spPr>
          <a:xfrm>
            <a:off x="0" y="0"/>
            <a:ext cx="9144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 C: Establish Allowable Lake Okeechobee Releases to the Water Conservatio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6560" y="1617840"/>
            <a:ext cx="2865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76840" y="53071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30720" y="604512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17760" y="58053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62400" y="5116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17760" y="44467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81480" y="375768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24240" y="307512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68520" y="239544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4120" y="6068880"/>
            <a:ext cx="2908440" cy="625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73920" y="2665440"/>
            <a:ext cx="5983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280" y="4030560"/>
            <a:ext cx="13086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4952880"/>
            <a:ext cx="1067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657600"/>
            <a:ext cx="1207800" cy="21128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024440" y="5559120"/>
            <a:ext cx="544320" cy="324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618160" y="5562720"/>
            <a:ext cx="49860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9640" y="5638680"/>
            <a:ext cx="1128600" cy="33732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-180720" y="5861160"/>
            <a:ext cx="849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81480" y="770040"/>
            <a:ext cx="220320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Tribut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iteria Dai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19160" y="771480"/>
            <a:ext cx="2203560" cy="53352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Apply Multi-Seas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limate/Hydrologic Outloo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8120" y="3741840"/>
            <a:ext cx="107640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89120" y="5133960"/>
            <a:ext cx="19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782440" y="5133960"/>
            <a:ext cx="1800" cy="6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665440" y="5821200"/>
            <a:ext cx="117360" cy="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86040" y="5562720"/>
            <a:ext cx="185760" cy="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7040" y="60642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/>
          <p:nvPr/>
        </p:nvCxnSpPr>
        <p:spPr>
          <a:xfrm flipH="1" flipV="1" rot="5400000">
            <a:off x="7158240" y="5360400"/>
            <a:ext cx="140400" cy="1175400"/>
          </a:xfrm>
          <a:prstGeom prst="bentConnector4">
            <a:avLst>
              <a:gd name="adj1" fmla="val 1028"/>
              <a:gd name="adj2" fmla="val 72549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96" name=""/>
          <p:cNvSpPr/>
          <p:nvPr/>
        </p:nvSpPr>
        <p:spPr>
          <a:xfrm flipV="1">
            <a:off x="2781360" y="5555880"/>
            <a:ext cx="0" cy="273240"/>
          </a:xfrm>
          <a:prstGeom prst="line">
            <a:avLst/>
          </a:prstGeom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75160" y="4037040"/>
            <a:ext cx="1066680" cy="7398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30200" y="3198960"/>
            <a:ext cx="83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02200" y="367344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14760" y="1560600"/>
            <a:ext cx="971640" cy="620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17240" y="1373040"/>
            <a:ext cx="292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 Lake Management B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93760" y="4784760"/>
            <a:ext cx="898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56920" y="5254560"/>
            <a:ext cx="50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143840" y="57834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49600" y="5337000"/>
            <a:ext cx="568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1760" y="50688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32680" y="5775480"/>
            <a:ext cx="950760" cy="6238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18560" y="6386400"/>
            <a:ext cx="1042920" cy="347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8160" y="3902040"/>
            <a:ext cx="1001520" cy="4143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4363920"/>
            <a:ext cx="996840" cy="303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21800" y="1150920"/>
            <a:ext cx="1025280" cy="471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p to Maximum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ischarge Capac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o Tide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106" idx="2"/>
          </p:cNvCxnSpPr>
          <p:nvPr/>
        </p:nvCxnSpPr>
        <p:spPr>
          <a:xfrm flipH="1" rot="16200000">
            <a:off x="3201840" y="4878720"/>
            <a:ext cx="573840" cy="2775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3" name=""/>
          <p:cNvCxnSpPr>
            <a:stCxn id="114" idx="2"/>
            <a:endCxn id="115" idx="0"/>
          </p:cNvCxnSpPr>
          <p:nvPr/>
        </p:nvCxnSpPr>
        <p:spPr>
          <a:xfrm flipH="1">
            <a:off x="3297960" y="5286240"/>
            <a:ext cx="3960" cy="232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6" name=""/>
          <p:cNvSpPr/>
          <p:nvPr/>
        </p:nvSpPr>
        <p:spPr>
          <a:xfrm>
            <a:off x="0" y="0"/>
            <a:ext cx="914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8 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 D: Establish Allowable Lake Okeechobee Releases to Tide (Estua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40" y="2738520"/>
            <a:ext cx="1158840" cy="6904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ke Okeechob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17" idx="0"/>
          </p:cNvCxnSpPr>
          <p:nvPr/>
        </p:nvCxnSpPr>
        <p:spPr>
          <a:xfrm flipV="1">
            <a:off x="622080" y="2509200"/>
            <a:ext cx="2862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19" name=""/>
          <p:cNvCxnSpPr>
            <a:stCxn id="117" idx="1"/>
          </p:cNvCxnSpPr>
          <p:nvPr/>
        </p:nvCxnSpPr>
        <p:spPr>
          <a:xfrm flipV="1">
            <a:off x="212760" y="1434600"/>
            <a:ext cx="613440" cy="14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>
            <a:off x="622440" y="3428640"/>
            <a:ext cx="22752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21" name=""/>
          <p:cNvSpPr/>
          <p:nvPr/>
        </p:nvSpPr>
        <p:spPr>
          <a:xfrm>
            <a:off x="2139480" y="636120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08640" y="5789520"/>
            <a:ext cx="8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OR WE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92280" y="3429000"/>
            <a:ext cx="1058760" cy="9111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79680" y="1881360"/>
            <a:ext cx="1058760" cy="950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ibut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ydrolog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26" idx="3"/>
            <a:endCxn id="124" idx="1"/>
          </p:cNvCxnSpPr>
          <p:nvPr/>
        </p:nvCxnSpPr>
        <p:spPr>
          <a:xfrm flipV="1">
            <a:off x="1396800" y="2356920"/>
            <a:ext cx="18324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7" name=""/>
          <p:cNvCxnSpPr>
            <a:stCxn id="128" idx="3"/>
            <a:endCxn id="123" idx="1"/>
          </p:cNvCxnSpPr>
          <p:nvPr/>
        </p:nvCxnSpPr>
        <p:spPr>
          <a:xfrm>
            <a:off x="1397160" y="3884400"/>
            <a:ext cx="19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14" name=""/>
          <p:cNvSpPr/>
          <p:nvPr/>
        </p:nvSpPr>
        <p:spPr>
          <a:xfrm>
            <a:off x="2876400" y="4643280"/>
            <a:ext cx="8510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ke St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thin 1.0 f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6" idx="0"/>
            <a:endCxn id="114" idx="1"/>
          </p:cNvCxnSpPr>
          <p:nvPr/>
        </p:nvCxnSpPr>
        <p:spPr>
          <a:xfrm flipH="1" flipV="1" rot="5400000">
            <a:off x="2437200" y="4629600"/>
            <a:ext cx="103680" cy="775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0" name=""/>
          <p:cNvSpPr/>
          <p:nvPr/>
        </p:nvSpPr>
        <p:spPr>
          <a:xfrm>
            <a:off x="4343400" y="5791320"/>
            <a:ext cx="1066680" cy="618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endCxn id="132" idx="0"/>
          </p:cNvCxnSpPr>
          <p:nvPr/>
        </p:nvCxnSpPr>
        <p:spPr>
          <a:xfrm>
            <a:off x="4928760" y="5286240"/>
            <a:ext cx="3515400" cy="580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3" name=""/>
          <p:cNvCxnSpPr>
            <a:stCxn id="106" idx="3"/>
          </p:cNvCxnSpPr>
          <p:nvPr/>
        </p:nvCxnSpPr>
        <p:spPr>
          <a:xfrm>
            <a:off x="2630520" y="5524200"/>
            <a:ext cx="676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4" name=""/>
          <p:cNvSpPr/>
          <p:nvPr/>
        </p:nvSpPr>
        <p:spPr>
          <a:xfrm>
            <a:off x="4419720" y="4645080"/>
            <a:ext cx="99036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14" idx="3"/>
            <a:endCxn id="134" idx="1"/>
          </p:cNvCxnSpPr>
          <p:nvPr/>
        </p:nvCxnSpPr>
        <p:spPr>
          <a:xfrm>
            <a:off x="3727080" y="4965840"/>
            <a:ext cx="693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6" name=""/>
          <p:cNvCxnSpPr>
            <a:stCxn id="134" idx="3"/>
            <a:endCxn id="137" idx="1"/>
          </p:cNvCxnSpPr>
          <p:nvPr/>
        </p:nvCxnSpPr>
        <p:spPr>
          <a:xfrm flipV="1">
            <a:off x="5409720" y="4961880"/>
            <a:ext cx="2531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8" name=""/>
          <p:cNvCxnSpPr>
            <a:stCxn id="107" idx="2"/>
          </p:cNvCxnSpPr>
          <p:nvPr/>
        </p:nvCxnSpPr>
        <p:spPr>
          <a:xfrm>
            <a:off x="6708240" y="639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9" name=""/>
          <p:cNvCxnSpPr>
            <a:stCxn id="115" idx="6"/>
            <a:endCxn id="107" idx="0"/>
          </p:cNvCxnSpPr>
          <p:nvPr/>
        </p:nvCxnSpPr>
        <p:spPr>
          <a:xfrm>
            <a:off x="3303720" y="5522760"/>
            <a:ext cx="3405600" cy="253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40" name=""/>
          <p:cNvSpPr/>
          <p:nvPr/>
        </p:nvSpPr>
        <p:spPr>
          <a:xfrm>
            <a:off x="4108320" y="3878280"/>
            <a:ext cx="9720" cy="936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0" bIns="-39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94000" y="5518080"/>
            <a:ext cx="972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34120" y="4108320"/>
            <a:ext cx="950760" cy="6112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40520" y="3413160"/>
            <a:ext cx="1006560" cy="36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21800" y="2317680"/>
            <a:ext cx="1019160" cy="401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1752480"/>
            <a:ext cx="101304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14760" y="2500200"/>
            <a:ext cx="97164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3027240"/>
            <a:ext cx="971280" cy="6746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 to 30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1" idx="0"/>
            <a:endCxn id="109" idx="1"/>
          </p:cNvCxnSpPr>
          <p:nvPr/>
        </p:nvCxnSpPr>
        <p:spPr>
          <a:xfrm>
            <a:off x="6710400" y="4107960"/>
            <a:ext cx="1248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8" name=""/>
          <p:cNvCxnSpPr>
            <a:stCxn id="97" idx="3"/>
            <a:endCxn id="141" idx="1"/>
          </p:cNvCxnSpPr>
          <p:nvPr/>
        </p:nvCxnSpPr>
        <p:spPr>
          <a:xfrm>
            <a:off x="4641480" y="4406760"/>
            <a:ext cx="159300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49" name=""/>
          <p:cNvCxnSpPr>
            <a:stCxn id="123" idx="2"/>
            <a:endCxn id="97" idx="1"/>
          </p:cNvCxnSpPr>
          <p:nvPr/>
        </p:nvCxnSpPr>
        <p:spPr>
          <a:xfrm flipH="1" rot="16200000">
            <a:off x="2814480" y="3646800"/>
            <a:ext cx="67320" cy="1453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0" name=""/>
          <p:cNvCxnSpPr>
            <a:stCxn id="123" idx="0"/>
            <a:endCxn id="146" idx="1"/>
          </p:cNvCxnSpPr>
          <p:nvPr/>
        </p:nvCxnSpPr>
        <p:spPr>
          <a:xfrm flipH="1" flipV="1" rot="5400000">
            <a:off x="2843640" y="2643480"/>
            <a:ext cx="64080" cy="15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1" name=""/>
          <p:cNvCxnSpPr>
            <a:stCxn id="123" idx="3"/>
            <a:endCxn id="140" idx="2"/>
          </p:cNvCxnSpPr>
          <p:nvPr/>
        </p:nvCxnSpPr>
        <p:spPr>
          <a:xfrm flipV="1">
            <a:off x="2651040" y="3882240"/>
            <a:ext cx="14580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2" name=""/>
          <p:cNvCxnSpPr>
            <a:stCxn id="97" idx="0"/>
            <a:endCxn id="140" idx="4"/>
          </p:cNvCxnSpPr>
          <p:nvPr/>
        </p:nvCxnSpPr>
        <p:spPr>
          <a:xfrm flipV="1">
            <a:off x="4108320" y="3886920"/>
            <a:ext cx="5760" cy="15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3" name=""/>
          <p:cNvCxnSpPr>
            <a:stCxn id="146" idx="2"/>
            <a:endCxn id="140" idx="0"/>
          </p:cNvCxnSpPr>
          <p:nvPr/>
        </p:nvCxnSpPr>
        <p:spPr>
          <a:xfrm flipH="1">
            <a:off x="4113000" y="3701880"/>
            <a:ext cx="2160" cy="17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4" name=""/>
          <p:cNvCxnSpPr/>
          <p:nvPr/>
        </p:nvCxnSpPr>
        <p:spPr>
          <a:xfrm>
            <a:off x="4995720" y="1392120"/>
            <a:ext cx="2921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5" name=""/>
          <p:cNvCxnSpPr>
            <a:stCxn id="100" idx="0"/>
          </p:cNvCxnSpPr>
          <p:nvPr/>
        </p:nvCxnSpPr>
        <p:spPr>
          <a:xfrm flipH="1" flipV="1">
            <a:off x="4995360" y="1386720"/>
            <a:ext cx="5760" cy="173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56" name=""/>
          <p:cNvCxnSpPr>
            <a:stCxn id="124" idx="2"/>
            <a:endCxn id="145" idx="1"/>
          </p:cNvCxnSpPr>
          <p:nvPr/>
        </p:nvCxnSpPr>
        <p:spPr>
          <a:xfrm>
            <a:off x="2109960" y="2832120"/>
            <a:ext cx="24055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57" name=""/>
          <p:cNvSpPr/>
          <p:nvPr/>
        </p:nvSpPr>
        <p:spPr>
          <a:xfrm>
            <a:off x="7927920" y="2824200"/>
            <a:ext cx="1019160" cy="46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65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940520" y="4753080"/>
            <a:ext cx="1028880" cy="417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7 Up to 4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8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27920" y="5865840"/>
            <a:ext cx="1031760" cy="439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30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117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94280" y="2349360"/>
            <a:ext cx="9360" cy="9720"/>
          </a:xfrm>
          <a:prstGeom prst="flowChartConnector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960" bIns="-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45" idx="0"/>
            <a:endCxn id="158" idx="4"/>
          </p:cNvCxnSpPr>
          <p:nvPr/>
        </p:nvCxnSpPr>
        <p:spPr>
          <a:xfrm flipH="1" flipV="1">
            <a:off x="4998240" y="2358720"/>
            <a:ext cx="2520" cy="14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0" name=""/>
          <p:cNvCxnSpPr>
            <a:stCxn id="100" idx="2"/>
            <a:endCxn id="158" idx="0"/>
          </p:cNvCxnSpPr>
          <p:nvPr/>
        </p:nvCxnSpPr>
        <p:spPr>
          <a:xfrm flipH="1">
            <a:off x="4998240" y="2180880"/>
            <a:ext cx="2520" cy="16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1" name=""/>
          <p:cNvCxnSpPr>
            <a:stCxn id="124" idx="3"/>
            <a:endCxn id="158" idx="2"/>
          </p:cNvCxnSpPr>
          <p:nvPr/>
        </p:nvCxnSpPr>
        <p:spPr>
          <a:xfrm flipV="1">
            <a:off x="2638440" y="2354040"/>
            <a:ext cx="235656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62" name=""/>
          <p:cNvSpPr/>
          <p:nvPr/>
        </p:nvSpPr>
        <p:spPr>
          <a:xfrm>
            <a:off x="6172200" y="2185920"/>
            <a:ext cx="984240" cy="6429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log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"/>
          <p:cNvCxnSpPr/>
          <p:nvPr/>
        </p:nvCxnSpPr>
        <p:spPr>
          <a:xfrm flipV="1">
            <a:off x="6664320" y="1980720"/>
            <a:ext cx="2160" cy="20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4" name=""/>
          <p:cNvCxnSpPr>
            <a:stCxn id="162" idx="3"/>
          </p:cNvCxnSpPr>
          <p:nvPr/>
        </p:nvCxnSpPr>
        <p:spPr>
          <a:xfrm>
            <a:off x="7156440" y="2508120"/>
            <a:ext cx="7689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5" name=""/>
          <p:cNvCxnSpPr>
            <a:stCxn id="124" idx="0"/>
            <a:endCxn id="100" idx="1"/>
          </p:cNvCxnSpPr>
          <p:nvPr/>
        </p:nvCxnSpPr>
        <p:spPr>
          <a:xfrm flipV="1">
            <a:off x="2109960" y="1870920"/>
            <a:ext cx="240552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6" name=""/>
          <p:cNvCxnSpPr>
            <a:stCxn id="158" idx="6"/>
          </p:cNvCxnSpPr>
          <p:nvPr/>
        </p:nvCxnSpPr>
        <p:spPr>
          <a:xfrm flipV="1">
            <a:off x="5003280" y="1980360"/>
            <a:ext cx="1661400" cy="374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7" name=""/>
          <p:cNvCxnSpPr>
            <a:endCxn id="144" idx="1"/>
          </p:cNvCxnSpPr>
          <p:nvPr/>
        </p:nvCxnSpPr>
        <p:spPr>
          <a:xfrm>
            <a:off x="6659640" y="1981080"/>
            <a:ext cx="12657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8" name=""/>
          <p:cNvCxnSpPr>
            <a:stCxn id="145" idx="3"/>
            <a:endCxn id="162" idx="1"/>
          </p:cNvCxnSpPr>
          <p:nvPr/>
        </p:nvCxnSpPr>
        <p:spPr>
          <a:xfrm flipV="1">
            <a:off x="5486040" y="2507760"/>
            <a:ext cx="686520" cy="331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69" name=""/>
          <p:cNvCxnSpPr>
            <a:stCxn id="146" idx="3"/>
            <a:endCxn id="157" idx="1"/>
          </p:cNvCxnSpPr>
          <p:nvPr/>
        </p:nvCxnSpPr>
        <p:spPr>
          <a:xfrm flipV="1">
            <a:off x="4600080" y="3057120"/>
            <a:ext cx="3328200" cy="308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0" name=""/>
          <p:cNvCxnSpPr>
            <a:stCxn id="140" idx="6"/>
            <a:endCxn id="142" idx="1"/>
          </p:cNvCxnSpPr>
          <p:nvPr/>
        </p:nvCxnSpPr>
        <p:spPr>
          <a:xfrm flipV="1">
            <a:off x="4118040" y="3598560"/>
            <a:ext cx="3823200" cy="2844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1" name=""/>
          <p:cNvCxnSpPr>
            <a:stCxn id="141" idx="2"/>
            <a:endCxn id="110" idx="1"/>
          </p:cNvCxnSpPr>
          <p:nvPr/>
        </p:nvCxnSpPr>
        <p:spPr>
          <a:xfrm flipH="1" flipV="1" rot="5400000">
            <a:off x="7231680" y="3994560"/>
            <a:ext cx="203760" cy="1246680"/>
          </a:xfrm>
          <a:prstGeom prst="bentConnector4">
            <a:avLst>
              <a:gd name="adj1" fmla="val -60000"/>
              <a:gd name="adj2" fmla="val 69064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72" name=""/>
          <p:cNvSpPr/>
          <p:nvPr/>
        </p:nvSpPr>
        <p:spPr>
          <a:xfrm>
            <a:off x="3695040" y="4794120"/>
            <a:ext cx="45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76960" y="47847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510552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193480" y="4229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65080" y="3692520"/>
            <a:ext cx="1104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84880" y="3193920"/>
            <a:ext cx="177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Lake level projected to rise to Hig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95720" y="3886200"/>
            <a:ext cx="17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EITHER FORECAST INDICA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4238640"/>
            <a:ext cx="153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BOTH FORECAS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INDICATE  DR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92320" y="3890880"/>
            <a:ext cx="135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83200" y="464508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63600" y="170964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660760" y="217476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WET</a:t>
            </a: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306520" y="265284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23440" y="233676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80880" y="1968480"/>
            <a:ext cx="114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WET TO VERY W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45000" y="2664000"/>
            <a:ext cx="3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75080" y="2473200"/>
            <a:ext cx="6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4876920" y="6552720"/>
            <a:ext cx="1829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90" name=""/>
          <p:cNvCxnSpPr/>
          <p:nvPr/>
        </p:nvCxnSpPr>
        <p:spPr>
          <a:xfrm>
            <a:off x="6706800" y="6554520"/>
            <a:ext cx="12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91" name=""/>
          <p:cNvSpPr/>
          <p:nvPr/>
        </p:nvSpPr>
        <p:spPr>
          <a:xfrm>
            <a:off x="190440" y="639720"/>
            <a:ext cx="2395440" cy="474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Note:  This operational guidance provides essential supplementary information to be used in </a:t>
            </a:r>
            <a:r>
              <a:rPr b="0" lang="en-US" sz="700" spc="-1" strike="noStrike" u="sng">
                <a:solidFill>
                  <a:srgbClr val="000000"/>
                </a:solidFill>
                <a:uFillTx/>
                <a:latin typeface="Arial"/>
              </a:rPr>
              <a:t>conjunction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with other supporting documentation including text within the Water Control Plan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65840" y="2149560"/>
            <a:ext cx="1060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 TO  D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295280"/>
            <a:ext cx="22860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 Lake Management B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1400" y="2235240"/>
            <a:ext cx="72576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360" y="3749760"/>
            <a:ext cx="9828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termedi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0640" y="5362560"/>
            <a:ext cx="725400" cy="26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42360" y="6629400"/>
            <a:ext cx="4742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* Very Dry Conditions may require that releases to tide (estuaries) be discontinu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0440" y="3327480"/>
            <a:ext cx="611280" cy="202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9280" y="552456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407200" y="6092640"/>
            <a:ext cx="828360" cy="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7175520" y="6079680"/>
            <a:ext cx="75240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644200" y="588168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14400" y="4133880"/>
            <a:ext cx="930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s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imate/Hyd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look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teorologica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e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4520" y="6357960"/>
            <a:ext cx="799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26600" y="6353280"/>
            <a:ext cx="109800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(NORMAL TO DR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" y="3333600"/>
            <a:ext cx="244440" cy="309888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00" y="6438960"/>
            <a:ext cx="998640" cy="261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 Flow 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152360" y="6216120"/>
            <a:ext cx="165240" cy="212760"/>
          </a:xfrm>
          <a:prstGeom prst="line">
            <a:avLst/>
          </a:prstGeom>
          <a:ln w="9360">
            <a:solidFill>
              <a:srgbClr val="00cc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-175320" y="5853960"/>
            <a:ext cx="838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gure 7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19600" y="679320"/>
            <a:ext cx="2578320" cy="524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Apply Meteorological Forecasts on 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eekly Basis; apply Seasonal and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Multi-Seasonal Climate/Hydrologic Outlooks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on a Monthly Basis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673200"/>
            <a:ext cx="2886120" cy="5331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When conducting Base Flow releases,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flows can be distributed East and Wes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up to 650 cfs as need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o minimize impacts or provide benefits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00" spc="-1" strike="noStrike">
                <a:solidFill>
                  <a:srgbClr val="000000"/>
                </a:solidFill>
                <a:latin typeface="Arial"/>
              </a:rPr>
              <a:t>through S-80 and S-7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5872320"/>
            <a:ext cx="1025280" cy="338040"/>
          </a:xfrm>
          <a:prstGeom prst="flowChartProcess">
            <a:avLst/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79 Up to 45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-80 Up to 200 cf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6408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7320" y="139068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endCxn id="130" idx="1"/>
          </p:cNvCxnSpPr>
          <p:nvPr/>
        </p:nvCxnSpPr>
        <p:spPr>
          <a:xfrm>
            <a:off x="2625480" y="5524200"/>
            <a:ext cx="1718280" cy="577080"/>
          </a:xfrm>
          <a:prstGeom prst="bentConnector3">
            <a:avLst>
              <a:gd name="adj1" fmla="val 83"/>
            </a:avLst>
          </a:prstGeom>
          <a:ln w="936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3:55:24Z</dcterms:created>
  <dc:creator>USACE</dc:creator>
  <dc:description/>
  <dc:language>en-US</dc:language>
  <cp:lastModifiedBy>dlyons</cp:lastModifiedBy>
  <dcterms:modified xsi:type="dcterms:W3CDTF">2008-08-27T13:55:25Z</dcterms:modified>
  <cp:revision>22</cp:revision>
  <dc:subject/>
  <dc:title>Slide 1</dc:title>
</cp:coreProperties>
</file>