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F68E-6C3C-4D6B-847F-0080638A4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73E-466F-43CD-842B-DC2C2CE7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E879-29F9-439B-A016-23696A92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0E33-C7A1-430D-A76E-22C4590CB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538-D6B5-4C9F-B0AA-4310E67E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7165-F3DB-44AC-AB5C-AD516FC1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B3A-51F7-4FF2-A371-82325D1A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24F7-C4FF-40B1-91DB-9CED58BB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F5DA-5756-43F9-9DBA-105F80A2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A759-724D-4A6B-AF1E-1E17EED4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EC1E-A574-4439-AF97-CB3854FC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8278-D08D-4372-A253-FDF6E327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89F7-6A26-4CE8-B3BF-74AAF0BCF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30320"/>
            <a:ext cx="9144000" cy="6727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56400" y="2832120"/>
            <a:ext cx="2898720" cy="965160"/>
          </a:xfrm>
          <a:custGeom>
            <a:avLst/>
            <a:gdLst/>
            <a:ahLst/>
            <a:rect l="l" t="t" r="r" b="b"/>
            <a:pathLst>
              <a:path w="1826" h="608">
                <a:moveTo>
                  <a:pt x="0" y="606"/>
                </a:moveTo>
                <a:lnTo>
                  <a:pt x="0" y="372"/>
                </a:lnTo>
                <a:lnTo>
                  <a:pt x="136" y="478"/>
                </a:lnTo>
                <a:lnTo>
                  <a:pt x="626" y="166"/>
                </a:lnTo>
                <a:lnTo>
                  <a:pt x="704" y="6"/>
                </a:lnTo>
                <a:lnTo>
                  <a:pt x="986" y="0"/>
                </a:lnTo>
                <a:lnTo>
                  <a:pt x="1130" y="160"/>
                </a:lnTo>
                <a:lnTo>
                  <a:pt x="1338" y="318"/>
                </a:lnTo>
                <a:lnTo>
                  <a:pt x="1618" y="319"/>
                </a:lnTo>
                <a:lnTo>
                  <a:pt x="1826" y="478"/>
                </a:lnTo>
                <a:lnTo>
                  <a:pt x="1820" y="606"/>
                </a:lnTo>
                <a:lnTo>
                  <a:pt x="1130" y="606"/>
                </a:lnTo>
                <a:lnTo>
                  <a:pt x="706" y="476"/>
                </a:lnTo>
                <a:lnTo>
                  <a:pt x="560" y="608"/>
                </a:lnTo>
                <a:lnTo>
                  <a:pt x="0" y="606"/>
                </a:lnTo>
                <a:close/>
              </a:path>
            </a:pathLst>
          </a:custGeom>
          <a:solidFill>
            <a:srgbClr val="cccc00">
              <a:alpha val="2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16:50:17Z</dcterms:created>
  <dc:creator>Cal Neidrauer</dc:creator>
  <dc:description/>
  <dc:language>en-US</dc:language>
  <cp:lastModifiedBy>Norapatt "Don" Ketprakong</cp:lastModifiedBy>
  <cp:lastPrinted>2003-05-06T17:55:13Z</cp:lastPrinted>
  <dcterms:modified xsi:type="dcterms:W3CDTF">2009-01-20T20:48:41Z</dcterms:modified>
  <cp:revision>359</cp:revision>
  <dc:subject/>
  <dc:title>No Slide Title</dc:title>
</cp:coreProperties>
</file>