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5F82-FA7C-4ED5-A9CB-C94DFCE7D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0DA3-A5F7-4327-9BCC-87A1279B0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78CD-4EE2-47D7-A696-4D10C3300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5CF1-F84E-464E-9E1D-493A9AF9A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1AE8-CC5E-40FD-B3D5-3B27A2451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6E8E-48AF-4795-BB36-E41BE1CA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38BD-FB66-4A28-8A61-44A862403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751C-75C6-4592-ABA1-38CCBD3AA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C298-8F64-4B81-A536-8685B6E07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9551-98AF-48A3-B832-3229C1BC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BD79-C974-4A47-8B7D-92739C345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074B-B528-496D-A91D-E4105BA8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5978B-43FA-4BD8-ABC1-CA84D04147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30320"/>
            <a:ext cx="9144000" cy="6727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756400" y="2832120"/>
            <a:ext cx="2898720" cy="965160"/>
          </a:xfrm>
          <a:custGeom>
            <a:avLst/>
            <a:gdLst/>
            <a:ahLst/>
            <a:rect l="l" t="t" r="r" b="b"/>
            <a:pathLst>
              <a:path w="1826" h="608">
                <a:moveTo>
                  <a:pt x="0" y="606"/>
                </a:moveTo>
                <a:lnTo>
                  <a:pt x="0" y="372"/>
                </a:lnTo>
                <a:lnTo>
                  <a:pt x="136" y="478"/>
                </a:lnTo>
                <a:lnTo>
                  <a:pt x="626" y="166"/>
                </a:lnTo>
                <a:lnTo>
                  <a:pt x="704" y="6"/>
                </a:lnTo>
                <a:lnTo>
                  <a:pt x="986" y="0"/>
                </a:lnTo>
                <a:lnTo>
                  <a:pt x="1130" y="160"/>
                </a:lnTo>
                <a:lnTo>
                  <a:pt x="1338" y="318"/>
                </a:lnTo>
                <a:lnTo>
                  <a:pt x="1618" y="319"/>
                </a:lnTo>
                <a:lnTo>
                  <a:pt x="1826" y="478"/>
                </a:lnTo>
                <a:lnTo>
                  <a:pt x="1820" y="606"/>
                </a:lnTo>
                <a:lnTo>
                  <a:pt x="1130" y="606"/>
                </a:lnTo>
                <a:lnTo>
                  <a:pt x="706" y="476"/>
                </a:lnTo>
                <a:lnTo>
                  <a:pt x="560" y="608"/>
                </a:lnTo>
                <a:lnTo>
                  <a:pt x="0" y="606"/>
                </a:lnTo>
                <a:close/>
              </a:path>
            </a:pathLst>
          </a:custGeom>
          <a:solidFill>
            <a:srgbClr val="cccc00">
              <a:alpha val="2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4T16:50:17Z</dcterms:created>
  <dc:creator>Cal Neidrauer</dc:creator>
  <dc:description/>
  <dc:language>en-US</dc:language>
  <cp:lastModifiedBy>Norapatt "Don" Ketprakong</cp:lastModifiedBy>
  <cp:lastPrinted>2003-05-06T17:55:13Z</cp:lastPrinted>
  <dcterms:modified xsi:type="dcterms:W3CDTF">2009-01-13T21:23:29Z</dcterms:modified>
  <cp:revision>358</cp:revision>
  <dc:subject/>
  <dc:title>No Slide Title</dc:title>
</cp:coreProperties>
</file>