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D0B-48E5-4DDA-AA08-3511F4D4C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FD8-BB5E-417B-AB6C-654385C4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1DD4-7AB9-454C-B623-76E3C282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AA9-EBA5-4427-8EE3-75EEA9BE8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7A5E-38C6-4AFF-81CD-303ECB84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DA55-589E-4B2B-9372-B49428BA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91C-61A7-4DB8-A9AD-07B86744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FFF-1ADC-4E6F-87D1-29E2711F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278-F1A2-417D-9C6D-3BE0C093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29-8C5D-4B3B-9302-EE0C617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752-B0A1-4EB4-8D87-1FA217E9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528-7CB2-4432-AA00-541706FA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28F8-5315-42C7-9928-D89376C5B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9-01-07T17:22:01Z</dcterms:modified>
  <cp:revision>9</cp:revision>
  <dc:subject/>
  <dc:title>Slide 1</dc:title>
</cp:coreProperties>
</file>