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FF6-93C4-43A2-BE44-CC737414E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3CD-10C1-4A34-BAFE-99407AC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FCD-C30B-4429-BB9A-F0475A42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578-C78E-48E3-9617-76D73374B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7568-435A-4C3C-8056-D88D7994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7C2-7A87-438F-94B2-7FC66473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9AC-3A4F-4984-BC47-B67612C7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73FB-F2AD-4054-BC71-B8735058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07C9-CA62-44F7-81FE-89820421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9C72-1BA8-4A87-A13B-9BD03575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AED6-96CC-43C8-A5FA-B20380A9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5C9E-F341-44A8-AE84-F06F22A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365A-DE36-4BFD-86A9-6C082EA7C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9-01-07T17:25:58Z</dcterms:modified>
  <cp:revision>31</cp:revision>
  <dc:subject/>
  <dc:title>Slide 1</dc:title>
</cp:coreProperties>
</file>