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F73-4A0E-47C9-8899-CA26578CA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5AA-1EB2-4304-963F-A83867D9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25F9-0D18-4BE0-9C48-B08656A18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D4EF-4381-4B60-878C-E64B1A1C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A3D-2D24-4794-ACB2-CCB5A8E1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C67-FF5B-4CCE-96E8-E7EBCFA6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9F9D-BDEE-4B0B-9B33-0C10726C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8037-82BD-4E0C-95E4-CE905C3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578-F52C-4208-A848-1E02F291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6B3C-5313-4521-B2A2-E863F7A0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7A77-AFFB-4A55-9D90-6E4369BD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A8F-B246-4FBC-A02A-6BF4F796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002D-F877-43E1-8FBC-4DFA2A1A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9-01-07T17:22:01Z</dcterms:modified>
  <cp:revision>9</cp:revision>
  <dc:subject/>
  <dc:title>Slide 1</dc:title>
</cp:coreProperties>
</file>