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6BE-9A46-4BD9-887C-C0A37974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4E8B-FB6B-46EF-B0B4-DFE02FA71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9DA-EBDE-4E0D-B469-505B70C2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5789-F39F-4231-8DA4-0F3CD150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01B-8173-4810-B875-C1B2BAE1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33E-4768-4DF3-89D5-ACA468DA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D4A-D940-49A1-BC29-0CB54249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F2F-999C-476A-95FF-17E45D01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CE5-9F05-4334-8E03-FA7E042B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44D-4216-4BDA-91E1-7D6B91B0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4669-18E2-4F75-AA36-8CA40CF4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B51-C6C6-4CBD-963C-6350ED11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154E-B180-46C6-A177-DD69F060F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ccff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ccff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H="1" flipV="1">
            <a:off x="2784600" y="5555880"/>
            <a:ext cx="2880" cy="26676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6040" y="513864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9-01-07T17:25:58Z</dcterms:modified>
  <cp:revision>31</cp:revision>
  <dc:subject/>
  <dc:title>Slide 1</dc:title>
</cp:coreProperties>
</file>