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E3F-B2EF-4BCC-A394-3F55C040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1FD9-63E4-4911-9B8A-F417DF72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DD6D-D8AA-4976-A27F-16F202AF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D318-8013-4ABE-A04D-0B5F199D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CC3-E407-4709-9BC5-F3C318CF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136A-D2FC-4700-B384-8C82D8B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E32A-15BB-4924-80B9-30C4258E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5A1-0572-470F-94E5-DD43843C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1F7-434D-4FF0-AAD2-2051AE00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60B-3C30-45D1-A6C7-979B1C5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BF2F-5B02-423C-AFF9-5AF7932E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DCE8-3CFA-44A7-99CF-3B9682FD0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EF1D-2E3C-46C2-914F-E0C7B545D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9-01-07T17:22:01Z</dcterms:modified>
  <cp:revision>9</cp:revision>
  <dc:subject/>
  <dc:title>Slide 1</dc:title>
</cp:coreProperties>
</file>