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B9D-9F5A-4E89-8F70-3F63D37E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053-8A8C-45B7-83DA-8420CE1E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0D9-41F1-4678-BDEA-50822EDC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639F-B853-40BF-9894-5A280149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F65-B479-42F0-870B-74ABAECB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B2C-AFC4-409B-A980-F8CDB463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BFB-9C4A-4565-8898-646CFB829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04E-AA39-4A05-89E5-88E139B2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CF5-8682-491B-AB8D-ED36662B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244-182C-4E35-8526-119D0262A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98A-BB40-45EE-A0FD-CD0DC57A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F2D-88DC-4091-A9B5-03BE00EF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45CE-EF51-48B8-9E55-02AEE826D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0320"/>
            <a:ext cx="9144000" cy="6727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56400" y="2832120"/>
            <a:ext cx="2898720" cy="965160"/>
          </a:xfrm>
          <a:custGeom>
            <a:avLst/>
            <a:gdLst/>
            <a:ahLst/>
            <a:rect l="l" t="t" r="r" b="b"/>
            <a:pathLst>
              <a:path w="1826" h="608">
                <a:moveTo>
                  <a:pt x="0" y="606"/>
                </a:moveTo>
                <a:lnTo>
                  <a:pt x="0" y="372"/>
                </a:lnTo>
                <a:lnTo>
                  <a:pt x="136" y="478"/>
                </a:lnTo>
                <a:lnTo>
                  <a:pt x="626" y="166"/>
                </a:lnTo>
                <a:lnTo>
                  <a:pt x="704" y="6"/>
                </a:lnTo>
                <a:lnTo>
                  <a:pt x="986" y="0"/>
                </a:lnTo>
                <a:lnTo>
                  <a:pt x="1130" y="160"/>
                </a:lnTo>
                <a:lnTo>
                  <a:pt x="1338" y="318"/>
                </a:lnTo>
                <a:lnTo>
                  <a:pt x="1618" y="319"/>
                </a:lnTo>
                <a:lnTo>
                  <a:pt x="1826" y="478"/>
                </a:lnTo>
                <a:lnTo>
                  <a:pt x="1820" y="606"/>
                </a:lnTo>
                <a:lnTo>
                  <a:pt x="1130" y="606"/>
                </a:lnTo>
                <a:lnTo>
                  <a:pt x="706" y="476"/>
                </a:lnTo>
                <a:lnTo>
                  <a:pt x="560" y="608"/>
                </a:lnTo>
                <a:lnTo>
                  <a:pt x="0" y="606"/>
                </a:lnTo>
                <a:close/>
              </a:path>
            </a:pathLst>
          </a:custGeom>
          <a:solidFill>
            <a:srgbClr val="cccc00">
              <a:alpha val="2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6:50:17Z</dcterms:created>
  <dc:creator>Cal Neidrauer</dc:creator>
  <dc:description/>
  <dc:language>en-US</dc:language>
  <cp:lastModifiedBy>Norapatt "Don" Ketprakong</cp:lastModifiedBy>
  <cp:lastPrinted>2003-05-06T17:55:13Z</cp:lastPrinted>
  <dcterms:modified xsi:type="dcterms:W3CDTF">2009-01-13T21:23:29Z</dcterms:modified>
  <cp:revision>358</cp:revision>
  <dc:subject/>
  <dc:title>No Slide Title</dc:title>
</cp:coreProperties>
</file>